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0FD1-F1C4-4E13-B92E-BBD7FCC24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D575-4780-4DB1-92AC-0C347B455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0166-0B4B-4768-BB69-0B06C9098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6752-F364-467D-8196-505BBCF31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77B7-8B6B-4650-B1FE-559B2EA3E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38DF-1715-4628-BD60-15A1E7678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0594-36CB-40DE-B992-2A0D3E311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9C57-F19E-4CB6-93EC-FFD9E5D69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2833-C5D2-4E38-A10E-0BACC5451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EB51-D0B1-426F-8909-8DA64826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CE51-D516-4644-A8AE-DA7EDD43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9A44-836B-485A-8959-04B4F5CA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81BEF-1635-4F83-9490-F164467F8E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zmacniacze prądu stałe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589680" y="746280"/>
            <a:ext cx="7945560" cy="9471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yft jest zjawiskiem szkodliwym, szczególnie prz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łych poziomach sygnałów i dużych wzmocnieni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561960" y="4643280"/>
                <a:ext cx="82947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Y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 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 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+ 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= 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3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 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7" name=""/>
          <p:cNvSpPr/>
          <p:nvPr/>
        </p:nvSpPr>
        <p:spPr>
          <a:xfrm>
            <a:off x="1855800" y="2825640"/>
            <a:ext cx="18860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2084400" y="2697120"/>
            <a:ext cx="228240" cy="259920"/>
            <a:chOff x="2084400" y="2697120"/>
            <a:chExt cx="228240" cy="259920"/>
          </a:xfrm>
        </p:grpSpPr>
        <p:sp>
          <p:nvSpPr>
            <p:cNvPr id="399" name=""/>
            <p:cNvSpPr/>
            <p:nvPr/>
          </p:nvSpPr>
          <p:spPr>
            <a:xfrm>
              <a:off x="2084400" y="2697120"/>
              <a:ext cx="228240" cy="259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142000" y="2826360"/>
              <a:ext cx="1144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 flipV="1">
              <a:off x="2198160" y="2761200"/>
              <a:ext cx="57960" cy="64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2198160" y="2826360"/>
              <a:ext cx="57960" cy="66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1855800" y="3807000"/>
            <a:ext cx="1886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841400" y="27525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841400" y="37339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827440" y="2697120"/>
            <a:ext cx="630000" cy="123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736800" y="2825640"/>
            <a:ext cx="18892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3965400" y="2697120"/>
            <a:ext cx="228240" cy="259920"/>
            <a:chOff x="3965400" y="2697120"/>
            <a:chExt cx="228240" cy="259920"/>
          </a:xfrm>
        </p:grpSpPr>
        <p:sp>
          <p:nvSpPr>
            <p:cNvPr id="409" name=""/>
            <p:cNvSpPr/>
            <p:nvPr/>
          </p:nvSpPr>
          <p:spPr>
            <a:xfrm>
              <a:off x="3965400" y="2697120"/>
              <a:ext cx="228240" cy="259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023360" y="2826360"/>
              <a:ext cx="1137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 flipV="1">
              <a:off x="4078800" y="2761200"/>
              <a:ext cx="57960" cy="64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4078800" y="2826360"/>
              <a:ext cx="57960" cy="66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3736800" y="3807000"/>
            <a:ext cx="18892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08440" y="2697120"/>
            <a:ext cx="630360" cy="123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619600" y="2825640"/>
            <a:ext cx="1887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5848200" y="2697120"/>
            <a:ext cx="228240" cy="259920"/>
            <a:chOff x="5848200" y="2697120"/>
            <a:chExt cx="228240" cy="259920"/>
          </a:xfrm>
        </p:grpSpPr>
        <p:sp>
          <p:nvSpPr>
            <p:cNvPr id="417" name=""/>
            <p:cNvSpPr/>
            <p:nvPr/>
          </p:nvSpPr>
          <p:spPr>
            <a:xfrm>
              <a:off x="5848200" y="2697120"/>
              <a:ext cx="228240" cy="259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906160" y="2826360"/>
              <a:ext cx="1141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 flipV="1">
              <a:off x="5961960" y="2761200"/>
              <a:ext cx="57960" cy="64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5961960" y="2826360"/>
              <a:ext cx="57960" cy="66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5619600" y="3807000"/>
            <a:ext cx="1887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591240" y="2697120"/>
            <a:ext cx="630360" cy="123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889160" y="3078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089160" y="3078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771960" y="3078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251880" y="32464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052240" y="32464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935040" y="32464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508880" y="3051000"/>
            <a:ext cx="1440" cy="53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7426080" y="3051000"/>
            <a:ext cx="8244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508880" y="3051000"/>
            <a:ext cx="8100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488360" y="27525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488360" y="37339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55840" y="2975040"/>
            <a:ext cx="99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782840" y="2927520"/>
            <a:ext cx="108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Y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919160" y="3032280"/>
            <a:ext cx="534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D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82880" y="2990880"/>
            <a:ext cx="534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D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653080" y="2989440"/>
            <a:ext cx="534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D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mniejszanie dryf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96720" y="1752480"/>
            <a:ext cx="8159760" cy="37515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Dryftów nie da się wyeliminować całkowic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Stosowanie ujemnych sprzężeń zwrotnych zmniejs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yft wzmocnienia i zmniejsza zmiany punktów pra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Kompensacja termiczna w obwodach zasilania tranzystor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większa stałość punktów pra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Stosowanie układów kompensujących dryf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wzmacniacze różnicow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y wzmacniaczy prądu stał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126440" y="2751120"/>
            <a:ext cx="693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Wzmacniacze z przetwarzani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Wzmacniacze o sprzężeniach galwanicz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z przetwarzani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325440" y="2060640"/>
            <a:ext cx="8490960" cy="3200400"/>
            <a:chOff x="325440" y="2060640"/>
            <a:chExt cx="8490960" cy="3200400"/>
          </a:xfrm>
        </p:grpSpPr>
        <p:sp>
          <p:nvSpPr>
            <p:cNvPr id="445" name=""/>
            <p:cNvSpPr/>
            <p:nvPr/>
          </p:nvSpPr>
          <p:spPr>
            <a:xfrm>
              <a:off x="4745160" y="2212920"/>
              <a:ext cx="1219320" cy="1295640"/>
            </a:xfrm>
            <a:custGeom>
              <a:avLst/>
              <a:gdLst/>
              <a:ahLst/>
              <a:rect l="l" t="t" r="r" b="b"/>
              <a:pathLst>
                <a:path w="672" h="624">
                  <a:moveTo>
                    <a:pt x="0" y="0"/>
                  </a:moveTo>
                  <a:lnTo>
                    <a:pt x="0" y="624"/>
                  </a:lnTo>
                  <a:lnTo>
                    <a:pt x="672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6" name=""/>
            <p:cNvGrpSpPr/>
            <p:nvPr/>
          </p:nvGrpSpPr>
          <p:grpSpPr>
            <a:xfrm>
              <a:off x="4059360" y="2670120"/>
              <a:ext cx="76320" cy="304920"/>
              <a:chOff x="4059360" y="2670120"/>
              <a:chExt cx="76320" cy="304920"/>
            </a:xfrm>
          </p:grpSpPr>
          <p:sp>
            <p:nvSpPr>
              <p:cNvPr id="447" name=""/>
              <p:cNvSpPr/>
              <p:nvPr/>
            </p:nvSpPr>
            <p:spPr>
              <a:xfrm>
                <a:off x="4059360" y="2670120"/>
                <a:ext cx="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135680" y="2670120"/>
                <a:ext cx="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9" name=""/>
            <p:cNvSpPr/>
            <p:nvPr/>
          </p:nvSpPr>
          <p:spPr>
            <a:xfrm>
              <a:off x="478080" y="526104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55040" y="27464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325440" y="4118040"/>
              <a:ext cx="609480" cy="609480"/>
              <a:chOff x="325440" y="4118040"/>
              <a:chExt cx="609480" cy="609480"/>
            </a:xfrm>
          </p:grpSpPr>
          <p:sp>
            <p:nvSpPr>
              <p:cNvPr id="452" name=""/>
              <p:cNvSpPr/>
              <p:nvPr/>
            </p:nvSpPr>
            <p:spPr>
              <a:xfrm>
                <a:off x="325440" y="411804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V="1">
                <a:off x="630360" y="4269960"/>
                <a:ext cx="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2382840" y="4118040"/>
              <a:ext cx="609840" cy="609480"/>
              <a:chOff x="2382840" y="4118040"/>
              <a:chExt cx="609840" cy="609480"/>
            </a:xfrm>
          </p:grpSpPr>
          <p:sp>
            <p:nvSpPr>
              <p:cNvPr id="455" name=""/>
              <p:cNvSpPr/>
              <p:nvPr/>
            </p:nvSpPr>
            <p:spPr>
              <a:xfrm>
                <a:off x="2382840" y="4118040"/>
                <a:ext cx="60984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459160" y="4346640"/>
                <a:ext cx="457200" cy="152280"/>
              </a:xfrm>
              <a:custGeom>
                <a:avLst/>
                <a:gdLst/>
                <a:ahLst/>
                <a:rect l="l" t="t" r="r" b="b"/>
                <a:pathLst>
                  <a:path w="288" h="96">
                    <a:moveTo>
                      <a:pt x="0" y="96"/>
                    </a:moveTo>
                    <a:lnTo>
                      <a:pt x="48" y="96"/>
                    </a:lnTo>
                    <a:lnTo>
                      <a:pt x="48" y="0"/>
                    </a:lnTo>
                    <a:lnTo>
                      <a:pt x="96" y="0"/>
                    </a:lnTo>
                    <a:lnTo>
                      <a:pt x="96" y="96"/>
                    </a:lnTo>
                    <a:lnTo>
                      <a:pt x="144" y="96"/>
                    </a:lnTo>
                    <a:lnTo>
                      <a:pt x="144" y="0"/>
                    </a:lnTo>
                    <a:lnTo>
                      <a:pt x="192" y="0"/>
                    </a:lnTo>
                    <a:lnTo>
                      <a:pt x="192" y="96"/>
                    </a:lnTo>
                    <a:lnTo>
                      <a:pt x="240" y="96"/>
                    </a:lnTo>
                    <a:lnTo>
                      <a:pt x="240" y="0"/>
                    </a:lnTo>
                    <a:lnTo>
                      <a:pt x="288" y="0"/>
                    </a:lnTo>
                    <a:lnTo>
                      <a:pt x="288" y="9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7" name=""/>
            <p:cNvSpPr/>
            <p:nvPr/>
          </p:nvSpPr>
          <p:spPr>
            <a:xfrm>
              <a:off x="1849680" y="2517840"/>
              <a:ext cx="175248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OD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30360" y="2822760"/>
              <a:ext cx="1219320" cy="457200"/>
            </a:xfrm>
            <a:custGeom>
              <a:avLst/>
              <a:gdLst/>
              <a:ahLst/>
              <a:rect l="l" t="t" r="r" b="b"/>
              <a:pathLst>
                <a:path w="768" h="288">
                  <a:moveTo>
                    <a:pt x="0" y="288"/>
                  </a:moveTo>
                  <a:lnTo>
                    <a:pt x="0" y="0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2687760" y="34318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30360" y="472752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535480" y="518472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687760" y="47275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135680" y="28227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602160" y="28227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421680" y="2365560"/>
              <a:ext cx="175248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TEK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174160" y="282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964480" y="28227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630360" y="312732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89840" y="4616640"/>
              <a:ext cx="674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204720" y="4159440"/>
              <a:ext cx="146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enera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ali nośne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423320" y="3549600"/>
              <a:ext cx="225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zmacniacz A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121960" y="2060640"/>
              <a:ext cx="694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1219320" y="2895480"/>
            <a:ext cx="1143000" cy="152640"/>
            <a:chOff x="1219320" y="2895480"/>
            <a:chExt cx="1143000" cy="152640"/>
          </a:xfrm>
        </p:grpSpPr>
        <p:sp>
          <p:nvSpPr>
            <p:cNvPr id="475" name=""/>
            <p:cNvSpPr/>
            <p:nvPr/>
          </p:nvSpPr>
          <p:spPr>
            <a:xfrm>
              <a:off x="1523880" y="2895480"/>
              <a:ext cx="533520" cy="152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057400" y="29718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219320" y="2971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3200400" y="3352320"/>
            <a:ext cx="228600" cy="457560"/>
            <a:chOff x="3200400" y="3352320"/>
            <a:chExt cx="228600" cy="457560"/>
          </a:xfrm>
        </p:grpSpPr>
        <p:sp>
          <p:nvSpPr>
            <p:cNvPr id="479" name=""/>
            <p:cNvSpPr/>
            <p:nvPr/>
          </p:nvSpPr>
          <p:spPr>
            <a:xfrm>
              <a:off x="3200400" y="335268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200400" y="358128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V="1">
              <a:off x="3200400" y="33523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3962520" y="2895480"/>
            <a:ext cx="1218600" cy="1295280"/>
            <a:chOff x="3962520" y="2895480"/>
            <a:chExt cx="1218600" cy="1295280"/>
          </a:xfrm>
        </p:grpSpPr>
        <p:sp>
          <p:nvSpPr>
            <p:cNvPr id="483" name=""/>
            <p:cNvSpPr/>
            <p:nvPr/>
          </p:nvSpPr>
          <p:spPr>
            <a:xfrm>
              <a:off x="3962520" y="2895480"/>
              <a:ext cx="1218600" cy="1295280"/>
            </a:xfrm>
            <a:custGeom>
              <a:avLst/>
              <a:gdLst/>
              <a:ahLst/>
              <a:rect l="l" t="t" r="r" b="b"/>
              <a:pathLst>
                <a:path w="672" h="624">
                  <a:moveTo>
                    <a:pt x="0" y="0"/>
                  </a:moveTo>
                  <a:lnTo>
                    <a:pt x="0" y="624"/>
                  </a:lnTo>
                  <a:lnTo>
                    <a:pt x="672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049280" y="3294000"/>
              <a:ext cx="17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049280" y="3792240"/>
              <a:ext cx="17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4136400" y="3692160"/>
              <a:ext cx="0" cy="199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2438280" y="3581280"/>
            <a:ext cx="76320" cy="304920"/>
            <a:chOff x="2438280" y="3581280"/>
            <a:chExt cx="76320" cy="304920"/>
          </a:xfrm>
        </p:grpSpPr>
        <p:sp>
          <p:nvSpPr>
            <p:cNvPr id="488" name=""/>
            <p:cNvSpPr/>
            <p:nvPr/>
          </p:nvSpPr>
          <p:spPr>
            <a:xfrm>
              <a:off x="2438280" y="35812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514600" y="35812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1143000" y="3733920"/>
            <a:ext cx="609480" cy="609480"/>
            <a:chOff x="1143000" y="3733920"/>
            <a:chExt cx="609480" cy="609480"/>
          </a:xfrm>
        </p:grpSpPr>
        <p:sp>
          <p:nvSpPr>
            <p:cNvPr id="491" name=""/>
            <p:cNvSpPr/>
            <p:nvPr/>
          </p:nvSpPr>
          <p:spPr>
            <a:xfrm>
              <a:off x="1143000" y="373392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1447920" y="38858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2133720" y="4572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5638680" y="2514600"/>
            <a:ext cx="610920" cy="917280"/>
            <a:chOff x="5638680" y="2514600"/>
            <a:chExt cx="610920" cy="917280"/>
          </a:xfrm>
        </p:grpSpPr>
        <p:sp>
          <p:nvSpPr>
            <p:cNvPr id="495" name=""/>
            <p:cNvSpPr/>
            <p:nvPr/>
          </p:nvSpPr>
          <p:spPr>
            <a:xfrm>
              <a:off x="5638680" y="2514600"/>
              <a:ext cx="610920" cy="611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5943960" y="2667240"/>
              <a:ext cx="0" cy="61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638680" y="2820600"/>
              <a:ext cx="610920" cy="611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4572000" y="246384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3254400" y="4317840"/>
            <a:ext cx="228600" cy="457560"/>
            <a:chOff x="3254400" y="4317840"/>
            <a:chExt cx="228600" cy="457560"/>
          </a:xfrm>
        </p:grpSpPr>
        <p:sp>
          <p:nvSpPr>
            <p:cNvPr id="500" name=""/>
            <p:cNvSpPr/>
            <p:nvPr/>
          </p:nvSpPr>
          <p:spPr>
            <a:xfrm flipV="1">
              <a:off x="3254400" y="431784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>
              <a:off x="3254400" y="43178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254400" y="45468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jprostszy wzmacniacz ze sprzężeniami galwaniczny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303200" y="3738600"/>
            <a:ext cx="1800" cy="84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36560" y="4587840"/>
            <a:ext cx="4251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114560" y="3360600"/>
            <a:ext cx="1440" cy="378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1114560" y="3360240"/>
            <a:ext cx="18864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114560" y="3549600"/>
            <a:ext cx="18864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1303200" y="3642840"/>
            <a:ext cx="1800" cy="9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1209600" y="3738600"/>
            <a:ext cx="936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736560" y="3549600"/>
            <a:ext cx="378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1303200" y="2131560"/>
            <a:ext cx="1800" cy="12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01640" y="4559400"/>
            <a:ext cx="58680" cy="5544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274760" y="4562640"/>
            <a:ext cx="58680" cy="5544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08120" y="3519360"/>
            <a:ext cx="58680" cy="558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838120" y="2057400"/>
            <a:ext cx="430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+Vc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274760" y="2103480"/>
            <a:ext cx="58680" cy="5400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209600" y="2509920"/>
            <a:ext cx="189000" cy="37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814480" y="3738600"/>
            <a:ext cx="1800" cy="84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625840" y="3360600"/>
            <a:ext cx="1440" cy="378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625840" y="3360240"/>
            <a:ext cx="18864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625840" y="3549600"/>
            <a:ext cx="18864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2814480" y="3642840"/>
            <a:ext cx="1800" cy="9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2720880" y="3738600"/>
            <a:ext cx="936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2247840" y="3549600"/>
            <a:ext cx="378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2814480" y="2131560"/>
            <a:ext cx="1800" cy="12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786040" y="4562640"/>
            <a:ext cx="58680" cy="5544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289400" y="3144960"/>
            <a:ext cx="58680" cy="5544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86040" y="2103480"/>
            <a:ext cx="58680" cy="5400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720880" y="2509920"/>
            <a:ext cx="189000" cy="37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303200" y="3171960"/>
            <a:ext cx="944640" cy="377640"/>
          </a:xfrm>
          <a:custGeom>
            <a:avLst/>
            <a:gdLst/>
            <a:ahLst/>
            <a:rect l="l" t="t" r="r" b="b"/>
            <a:pathLst>
              <a:path w="595" h="238">
                <a:moveTo>
                  <a:pt x="0" y="0"/>
                </a:moveTo>
                <a:lnTo>
                  <a:pt x="476" y="0"/>
                </a:lnTo>
                <a:lnTo>
                  <a:pt x="476" y="238"/>
                </a:lnTo>
                <a:lnTo>
                  <a:pt x="595" y="23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327560" y="3738600"/>
            <a:ext cx="1440" cy="84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138560" y="3360600"/>
            <a:ext cx="1800" cy="378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4138560" y="3360240"/>
            <a:ext cx="18900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138560" y="3549600"/>
            <a:ext cx="18900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4327560" y="3642840"/>
            <a:ext cx="1440" cy="9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4231800" y="3738600"/>
            <a:ext cx="95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3760560" y="3549600"/>
            <a:ext cx="377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4334040" y="2131560"/>
            <a:ext cx="1440" cy="12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297320" y="4562640"/>
            <a:ext cx="58680" cy="5544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297320" y="2103480"/>
            <a:ext cx="58680" cy="5400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232160" y="2509920"/>
            <a:ext cx="189000" cy="37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814480" y="3171960"/>
            <a:ext cx="946440" cy="377640"/>
          </a:xfrm>
          <a:custGeom>
            <a:avLst/>
            <a:gdLst/>
            <a:ahLst/>
            <a:rect l="l" t="t" r="r" b="b"/>
            <a:pathLst>
              <a:path w="596" h="238">
                <a:moveTo>
                  <a:pt x="0" y="0"/>
                </a:moveTo>
                <a:lnTo>
                  <a:pt x="477" y="0"/>
                </a:lnTo>
                <a:lnTo>
                  <a:pt x="477" y="238"/>
                </a:lnTo>
                <a:lnTo>
                  <a:pt x="596" y="23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959360" y="4562640"/>
            <a:ext cx="58680" cy="5544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327560" y="3171960"/>
            <a:ext cx="660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959360" y="3146400"/>
            <a:ext cx="58680" cy="540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303200" y="2131920"/>
            <a:ext cx="4440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715000" y="2106720"/>
            <a:ext cx="58680" cy="5544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268280" y="3141720"/>
            <a:ext cx="59040" cy="5544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779560" y="3141720"/>
            <a:ext cx="59040" cy="5544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396800" y="5951520"/>
            <a:ext cx="520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LATEGO praktycznie nie stosow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795320" y="4932360"/>
            <a:ext cx="511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Problemy z polaryzacją tranzystorów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OLBRZYMI wpływ tempera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093360" y="3135240"/>
            <a:ext cx="166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esuwniki poziomów napię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809880" y="1716120"/>
            <a:ext cx="1067040" cy="1293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3276360" y="202104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200400" y="1563840"/>
            <a:ext cx="152280" cy="30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276720" y="1868400"/>
            <a:ext cx="14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276720" y="2554200"/>
            <a:ext cx="144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743200" y="3392640"/>
            <a:ext cx="3733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124080" y="2249640"/>
            <a:ext cx="180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3124080" y="22492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124080" y="24019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2477880"/>
            <a:ext cx="144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3200400" y="2554200"/>
            <a:ext cx="76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2819520" y="2401920"/>
            <a:ext cx="304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181480" y="2249640"/>
            <a:ext cx="180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181480" y="22492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181480" y="24019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5334120" y="2477880"/>
            <a:ext cx="144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257800" y="2554200"/>
            <a:ext cx="76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4876920" y="2401920"/>
            <a:ext cx="304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3276720" y="1411200"/>
            <a:ext cx="14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276720" y="1411200"/>
            <a:ext cx="3201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257800" y="1563840"/>
            <a:ext cx="152280" cy="30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34120" y="1411200"/>
            <a:ext cx="14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334120" y="1868400"/>
            <a:ext cx="14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334120" y="2554200"/>
            <a:ext cx="144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334120" y="202104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714760" y="336852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52960" y="337176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786120" y="2001960"/>
            <a:ext cx="47520" cy="44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257640" y="2001960"/>
            <a:ext cx="47520" cy="44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853160" y="2378160"/>
            <a:ext cx="47520" cy="44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310360" y="199692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310360" y="336852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458040" y="336852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458040" y="139212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453360" y="199692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795760" y="2378160"/>
            <a:ext cx="47520" cy="44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918600" y="1884240"/>
            <a:ext cx="27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6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451400" y="2189160"/>
            <a:ext cx="40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0.7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914640" y="2570040"/>
            <a:ext cx="78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zesuwni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993840" y="2722680"/>
            <a:ext cx="57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ziom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038480" y="5013360"/>
            <a:ext cx="18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3581280" y="6230520"/>
            <a:ext cx="1676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886200" y="4708440"/>
            <a:ext cx="144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3886200" y="470844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86200" y="486108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4038480" y="4937040"/>
            <a:ext cx="180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3962160" y="5013360"/>
            <a:ext cx="75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580920" y="4861080"/>
            <a:ext cx="30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4038480" y="425124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552840" y="620856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014720" y="621180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557520" y="483696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962520" y="5165640"/>
            <a:ext cx="152280" cy="3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3924360" y="5713560"/>
            <a:ext cx="228600" cy="370800"/>
            <a:chOff x="3924360" y="5713560"/>
            <a:chExt cx="228600" cy="370800"/>
          </a:xfrm>
        </p:grpSpPr>
        <p:sp>
          <p:nvSpPr>
            <p:cNvPr id="609" name=""/>
            <p:cNvSpPr/>
            <p:nvPr/>
          </p:nvSpPr>
          <p:spPr>
            <a:xfrm>
              <a:off x="3924360" y="5856120"/>
              <a:ext cx="228600" cy="228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924360" y="5713560"/>
              <a:ext cx="228600" cy="228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924360" y="5856120"/>
              <a:ext cx="228600" cy="2282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2" name=""/>
            <p:cNvGrpSpPr/>
            <p:nvPr/>
          </p:nvGrpSpPr>
          <p:grpSpPr>
            <a:xfrm>
              <a:off x="4002120" y="5784840"/>
              <a:ext cx="71280" cy="222840"/>
              <a:chOff x="4002120" y="5784840"/>
              <a:chExt cx="71280" cy="222840"/>
            </a:xfrm>
          </p:grpSpPr>
          <p:sp>
            <p:nvSpPr>
              <p:cNvPr id="613" name=""/>
              <p:cNvSpPr/>
              <p:nvPr/>
            </p:nvSpPr>
            <p:spPr>
              <a:xfrm flipV="1">
                <a:off x="4040280" y="5784840"/>
                <a:ext cx="1440" cy="213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 flipV="1">
                <a:off x="4002120" y="5941440"/>
                <a:ext cx="38160" cy="66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V="1">
                <a:off x="4040280" y="5941440"/>
                <a:ext cx="33120" cy="66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6" name=""/>
          <p:cNvSpPr/>
          <p:nvPr/>
        </p:nvSpPr>
        <p:spPr>
          <a:xfrm>
            <a:off x="4038480" y="5546880"/>
            <a:ext cx="1219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229360" y="552276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229360" y="620856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3428640" y="5410080"/>
            <a:ext cx="133920" cy="242640"/>
            <a:chOff x="3428640" y="5410080"/>
            <a:chExt cx="133920" cy="242640"/>
          </a:xfrm>
        </p:grpSpPr>
        <p:sp>
          <p:nvSpPr>
            <p:cNvPr id="620" name=""/>
            <p:cNvSpPr/>
            <p:nvPr/>
          </p:nvSpPr>
          <p:spPr>
            <a:xfrm>
              <a:off x="3428640" y="54100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505320" y="5530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3504960" y="5013360"/>
            <a:ext cx="152640" cy="1066680"/>
            <a:chOff x="3504960" y="5013360"/>
            <a:chExt cx="152640" cy="1066680"/>
          </a:xfrm>
        </p:grpSpPr>
        <p:sp>
          <p:nvSpPr>
            <p:cNvPr id="623" name=""/>
            <p:cNvSpPr/>
            <p:nvPr/>
          </p:nvSpPr>
          <p:spPr>
            <a:xfrm>
              <a:off x="3581280" y="5013360"/>
              <a:ext cx="1800" cy="1066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3504960" y="5013360"/>
              <a:ext cx="75960" cy="75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581280" y="5013360"/>
              <a:ext cx="76320" cy="75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5181480" y="5622480"/>
            <a:ext cx="152640" cy="531720"/>
            <a:chOff x="5181480" y="5622480"/>
            <a:chExt cx="152640" cy="531720"/>
          </a:xfrm>
        </p:grpSpPr>
        <p:sp>
          <p:nvSpPr>
            <p:cNvPr id="627" name=""/>
            <p:cNvSpPr/>
            <p:nvPr/>
          </p:nvSpPr>
          <p:spPr>
            <a:xfrm flipV="1">
              <a:off x="5257800" y="5622480"/>
              <a:ext cx="1440" cy="53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181480" y="5622840"/>
              <a:ext cx="76320" cy="74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257800" y="5622840"/>
              <a:ext cx="76320" cy="74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0" name=""/>
          <p:cNvSpPr/>
          <p:nvPr/>
        </p:nvSpPr>
        <p:spPr>
          <a:xfrm>
            <a:off x="5333760" y="57913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410080" y="59119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190760" y="525780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266720" y="579132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114440" y="4191120"/>
            <a:ext cx="343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V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014720" y="422748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55400" y="1828800"/>
            <a:ext cx="175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04560" y="4952880"/>
            <a:ext cx="27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suwnik pozi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3657240" y="2057400"/>
            <a:ext cx="152640" cy="1066680"/>
            <a:chOff x="3657240" y="2057400"/>
            <a:chExt cx="152640" cy="1066680"/>
          </a:xfrm>
        </p:grpSpPr>
        <p:sp>
          <p:nvSpPr>
            <p:cNvPr id="639" name=""/>
            <p:cNvSpPr/>
            <p:nvPr/>
          </p:nvSpPr>
          <p:spPr>
            <a:xfrm>
              <a:off x="3733560" y="2057400"/>
              <a:ext cx="1800" cy="1066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3657240" y="2057400"/>
              <a:ext cx="75960" cy="75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733560" y="2057400"/>
              <a:ext cx="76320" cy="75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6095880" y="4648320"/>
                <a:ext cx="212580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≃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= 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- 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- R</m:t>
                        </m:r>
                        <m:r>
                          <m:t xml:space="preserve">⋅</m:t>
                        </m:r>
                        <m:r>
                          <m:t xml:space="preserve">I</m:t>
                        </m:r>
                      </m:e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- 0,7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643" name=""/>
          <p:cNvSpPr/>
          <p:nvPr/>
        </p:nvSpPr>
        <p:spPr>
          <a:xfrm>
            <a:off x="2348640" y="243828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270120" y="1565280"/>
            <a:ext cx="1988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zawsz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217960" y="3433680"/>
            <a:ext cx="435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la 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=0 wzmacniacz nie dział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316480" y="138096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014720" y="552276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aryzacja wejść wzmacniac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76920" y="2270160"/>
            <a:ext cx="8084160" cy="19227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Do wejścia każdego wzmacniacza prądu stałego dołączone s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elektrody sterujące tranzystor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Należy je tak połączyć aby umożliwić przepły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prądów polaryzacji (wejściowe prądy polaryzacj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67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Źródła prąd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2642760" y="1611360"/>
            <a:ext cx="160920" cy="162000"/>
            <a:chOff x="2642760" y="1611360"/>
            <a:chExt cx="160920" cy="162000"/>
          </a:xfrm>
        </p:grpSpPr>
        <p:sp>
          <p:nvSpPr>
            <p:cNvPr id="652" name=""/>
            <p:cNvSpPr/>
            <p:nvPr/>
          </p:nvSpPr>
          <p:spPr>
            <a:xfrm>
              <a:off x="2722680" y="1611360"/>
              <a:ext cx="1440" cy="16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643120" y="1611360"/>
              <a:ext cx="7956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2642760" y="1690560"/>
              <a:ext cx="7956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643120" y="1771560"/>
              <a:ext cx="3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2643120" y="1731960"/>
              <a:ext cx="180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722680" y="1690560"/>
              <a:ext cx="810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8" name=""/>
          <p:cNvSpPr/>
          <p:nvPr/>
        </p:nvSpPr>
        <p:spPr>
          <a:xfrm>
            <a:off x="2803680" y="1690560"/>
            <a:ext cx="1998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3003480" y="120960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2643120" y="1209600"/>
            <a:ext cx="1800" cy="401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643120" y="1771560"/>
            <a:ext cx="1800" cy="401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643120" y="2173320"/>
            <a:ext cx="88272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963880" y="1370160"/>
            <a:ext cx="81000" cy="20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083760" y="1459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044880" y="1177920"/>
            <a:ext cx="17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640400" y="1089000"/>
            <a:ext cx="1440" cy="1084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487760" y="2100240"/>
            <a:ext cx="164484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 flipV="1">
            <a:off x="6051240" y="2062080"/>
            <a:ext cx="8100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6051240" y="2101680"/>
            <a:ext cx="81000" cy="41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4600080" y="1089000"/>
            <a:ext cx="39960" cy="81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640400" y="1092240"/>
            <a:ext cx="41040" cy="79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648320" y="1289160"/>
            <a:ext cx="402840" cy="160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72771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72771"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848120" y="1290600"/>
            <a:ext cx="1800" cy="801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4843440" y="1204920"/>
            <a:ext cx="1163520" cy="79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097320" y="193500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145920" y="2008080"/>
            <a:ext cx="20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510000" y="2152800"/>
            <a:ext cx="414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627280" y="1189080"/>
            <a:ext cx="4140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989440" y="1189080"/>
            <a:ext cx="3960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651200" y="2011320"/>
            <a:ext cx="277920" cy="8100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4683240" y="1209600"/>
            <a:ext cx="1293840" cy="81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897880" y="1258920"/>
            <a:ext cx="648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    = con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915880" y="13190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437000" y="1068480"/>
            <a:ext cx="8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466520" y="1117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2642760" y="2774880"/>
            <a:ext cx="160920" cy="162000"/>
            <a:chOff x="2642760" y="2774880"/>
            <a:chExt cx="160920" cy="162000"/>
          </a:xfrm>
        </p:grpSpPr>
        <p:sp>
          <p:nvSpPr>
            <p:cNvPr id="687" name=""/>
            <p:cNvSpPr/>
            <p:nvPr/>
          </p:nvSpPr>
          <p:spPr>
            <a:xfrm>
              <a:off x="2722680" y="2774880"/>
              <a:ext cx="144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643120" y="2774880"/>
              <a:ext cx="7956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>
              <a:off x="2642760" y="2854440"/>
              <a:ext cx="7956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643120" y="2935440"/>
              <a:ext cx="3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2643120" y="2893680"/>
              <a:ext cx="180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722680" y="2854440"/>
              <a:ext cx="81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2803680" y="2854440"/>
            <a:ext cx="1998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V="1">
            <a:off x="2643120" y="2373120"/>
            <a:ext cx="1800" cy="401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643120" y="2935440"/>
            <a:ext cx="1800" cy="39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643120" y="3335400"/>
            <a:ext cx="60156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228840" y="3316320"/>
            <a:ext cx="414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627280" y="2352600"/>
            <a:ext cx="4140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003480" y="2859120"/>
            <a:ext cx="1800" cy="482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89440" y="332100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2924280" y="3011400"/>
            <a:ext cx="160200" cy="162000"/>
            <a:chOff x="2924280" y="3011400"/>
            <a:chExt cx="160200" cy="162000"/>
          </a:xfrm>
        </p:grpSpPr>
        <p:sp>
          <p:nvSpPr>
            <p:cNvPr id="702" name=""/>
            <p:cNvSpPr/>
            <p:nvPr/>
          </p:nvSpPr>
          <p:spPr>
            <a:xfrm>
              <a:off x="2924280" y="3011400"/>
              <a:ext cx="160200" cy="162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003480" y="3054240"/>
              <a:ext cx="180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H="1">
              <a:off x="2963880" y="3054240"/>
              <a:ext cx="3960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003480" y="3054240"/>
              <a:ext cx="4140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2746440" y="2514600"/>
            <a:ext cx="1309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pływ temperatury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361960" y="10652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361960" y="22287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327200" y="21891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4568400" y="2774880"/>
            <a:ext cx="160920" cy="162000"/>
            <a:chOff x="4568400" y="2774880"/>
            <a:chExt cx="160920" cy="162000"/>
          </a:xfrm>
        </p:grpSpPr>
        <p:sp>
          <p:nvSpPr>
            <p:cNvPr id="711" name=""/>
            <p:cNvSpPr/>
            <p:nvPr/>
          </p:nvSpPr>
          <p:spPr>
            <a:xfrm>
              <a:off x="4648320" y="2774880"/>
              <a:ext cx="144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568760" y="2774880"/>
              <a:ext cx="7956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4568400" y="2854440"/>
              <a:ext cx="7956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568760" y="2935440"/>
              <a:ext cx="3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V="1">
              <a:off x="4568760" y="2893680"/>
              <a:ext cx="180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648320" y="2854440"/>
              <a:ext cx="81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>
            <a:off x="4729320" y="2854440"/>
            <a:ext cx="1998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4929120" y="237348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4568760" y="2373120"/>
            <a:ext cx="1800" cy="401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568760" y="2935440"/>
            <a:ext cx="1800" cy="39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568760" y="3335400"/>
            <a:ext cx="88128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889520" y="2533680"/>
            <a:ext cx="79200" cy="20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009400" y="26226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969080" y="2341440"/>
            <a:ext cx="17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435640" y="331632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552920" y="2352600"/>
            <a:ext cx="3960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913280" y="2352600"/>
            <a:ext cx="4140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4929120" y="285444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4848120" y="3054240"/>
            <a:ext cx="162000" cy="122400"/>
            <a:chOff x="4848120" y="3054240"/>
            <a:chExt cx="162000" cy="122400"/>
          </a:xfrm>
        </p:grpSpPr>
        <p:sp>
          <p:nvSpPr>
            <p:cNvPr id="730" name=""/>
            <p:cNvSpPr/>
            <p:nvPr/>
          </p:nvSpPr>
          <p:spPr>
            <a:xfrm>
              <a:off x="4848120" y="3054240"/>
              <a:ext cx="162000" cy="120600"/>
            </a:xfrm>
            <a:custGeom>
              <a:avLst/>
              <a:gdLst/>
              <a:ahLst/>
              <a:rect l="l" t="t" r="r" b="b"/>
              <a:pathLst>
                <a:path w="202" h="152">
                  <a:moveTo>
                    <a:pt x="0" y="0"/>
                  </a:moveTo>
                  <a:lnTo>
                    <a:pt x="202" y="0"/>
                  </a:lnTo>
                  <a:lnTo>
                    <a:pt x="101" y="1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848120" y="3174840"/>
              <a:ext cx="1620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2" name=""/>
          <p:cNvSpPr/>
          <p:nvPr/>
        </p:nvSpPr>
        <p:spPr>
          <a:xfrm>
            <a:off x="2361960" y="36734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2561760" y="4218120"/>
            <a:ext cx="160920" cy="161640"/>
            <a:chOff x="2561760" y="4218120"/>
            <a:chExt cx="160920" cy="161640"/>
          </a:xfrm>
        </p:grpSpPr>
        <p:sp>
          <p:nvSpPr>
            <p:cNvPr id="734" name=""/>
            <p:cNvSpPr/>
            <p:nvPr/>
          </p:nvSpPr>
          <p:spPr>
            <a:xfrm>
              <a:off x="2643120" y="4218120"/>
              <a:ext cx="1800" cy="16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562120" y="4218120"/>
              <a:ext cx="8100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>
              <a:off x="2561760" y="4299120"/>
              <a:ext cx="8100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562120" y="4378320"/>
              <a:ext cx="41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V="1">
              <a:off x="2562120" y="4338720"/>
              <a:ext cx="180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643120" y="4299120"/>
              <a:ext cx="79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2722680" y="4299120"/>
            <a:ext cx="2016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2924280" y="3817440"/>
            <a:ext cx="1440" cy="481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2562120" y="3817800"/>
            <a:ext cx="1800" cy="400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562120" y="4378320"/>
            <a:ext cx="1800" cy="401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562120" y="4780080"/>
            <a:ext cx="88272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882880" y="3978360"/>
            <a:ext cx="81000" cy="199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002760" y="4067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963880" y="3786120"/>
            <a:ext cx="17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430440" y="4759200"/>
            <a:ext cx="3996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548080" y="379728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908440" y="3797280"/>
            <a:ext cx="4104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2924280" y="4299120"/>
            <a:ext cx="144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2803680" y="4498920"/>
            <a:ext cx="199800" cy="120600"/>
            <a:chOff x="2803680" y="4498920"/>
            <a:chExt cx="199800" cy="120600"/>
          </a:xfrm>
        </p:grpSpPr>
        <p:grpSp>
          <p:nvGrpSpPr>
            <p:cNvPr id="753" name=""/>
            <p:cNvGrpSpPr/>
            <p:nvPr/>
          </p:nvGrpSpPr>
          <p:grpSpPr>
            <a:xfrm>
              <a:off x="2843280" y="4498920"/>
              <a:ext cx="160200" cy="120600"/>
              <a:chOff x="2843280" y="4498920"/>
              <a:chExt cx="160200" cy="120600"/>
            </a:xfrm>
          </p:grpSpPr>
          <p:sp>
            <p:nvSpPr>
              <p:cNvPr id="754" name=""/>
              <p:cNvSpPr/>
              <p:nvPr/>
            </p:nvSpPr>
            <p:spPr>
              <a:xfrm>
                <a:off x="2843280" y="4498920"/>
                <a:ext cx="160200" cy="120600"/>
              </a:xfrm>
              <a:custGeom>
                <a:avLst/>
                <a:gdLst/>
                <a:ahLst/>
                <a:rect l="l" t="t" r="r" b="b"/>
                <a:pathLst>
                  <a:path w="202" h="152">
                    <a:moveTo>
                      <a:pt x="0" y="152"/>
                    </a:moveTo>
                    <a:lnTo>
                      <a:pt x="202" y="152"/>
                    </a:lnTo>
                    <a:lnTo>
                      <a:pt x="101" y="0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2843280" y="4498920"/>
                <a:ext cx="1602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6" name=""/>
            <p:cNvSpPr/>
            <p:nvPr/>
          </p:nvSpPr>
          <p:spPr>
            <a:xfrm flipH="1">
              <a:off x="2803680" y="4498920"/>
              <a:ext cx="3960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7" name=""/>
          <p:cNvSpPr/>
          <p:nvPr/>
        </p:nvSpPr>
        <p:spPr>
          <a:xfrm>
            <a:off x="2522520" y="4498920"/>
            <a:ext cx="81000" cy="20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361600" y="4548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833120" y="4876920"/>
            <a:ext cx="232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dzo dobry w układach dyskretny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408200" y="36734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4687560" y="4259160"/>
            <a:ext cx="160560" cy="162000"/>
            <a:chOff x="4687560" y="4259160"/>
            <a:chExt cx="160560" cy="162000"/>
          </a:xfrm>
        </p:grpSpPr>
        <p:sp>
          <p:nvSpPr>
            <p:cNvPr id="762" name=""/>
            <p:cNvSpPr/>
            <p:nvPr/>
          </p:nvSpPr>
          <p:spPr>
            <a:xfrm>
              <a:off x="4768920" y="4259160"/>
              <a:ext cx="144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687920" y="4259160"/>
              <a:ext cx="8100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>
              <a:off x="4687560" y="4338720"/>
              <a:ext cx="8100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687920" y="4419720"/>
              <a:ext cx="41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V="1">
              <a:off x="4687920" y="4377960"/>
              <a:ext cx="144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768920" y="4338720"/>
              <a:ext cx="79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4848120" y="4338720"/>
            <a:ext cx="2016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5210280" y="3776760"/>
            <a:ext cx="1440" cy="482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687920" y="3776760"/>
            <a:ext cx="1440" cy="482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687920" y="4419720"/>
            <a:ext cx="1440" cy="39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687920" y="4819680"/>
            <a:ext cx="88272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648320" y="3897360"/>
            <a:ext cx="81000" cy="20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687920" y="3665520"/>
            <a:ext cx="17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556240" y="480060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673520" y="375768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194440" y="3757680"/>
            <a:ext cx="4104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527000" y="3986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5049360" y="4259160"/>
            <a:ext cx="162360" cy="162000"/>
            <a:chOff x="5049360" y="4259160"/>
            <a:chExt cx="162360" cy="162000"/>
          </a:xfrm>
        </p:grpSpPr>
        <p:sp>
          <p:nvSpPr>
            <p:cNvPr id="780" name=""/>
            <p:cNvSpPr/>
            <p:nvPr/>
          </p:nvSpPr>
          <p:spPr>
            <a:xfrm>
              <a:off x="5129280" y="4259160"/>
              <a:ext cx="144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>
              <a:off x="5128920" y="4259160"/>
              <a:ext cx="8100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129280" y="4338720"/>
              <a:ext cx="8100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5169960" y="4419720"/>
              <a:ext cx="39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5210280" y="4377960"/>
              <a:ext cx="144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5049360" y="4338720"/>
              <a:ext cx="79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6" name=""/>
          <p:cNvSpPr/>
          <p:nvPr/>
        </p:nvSpPr>
        <p:spPr>
          <a:xfrm flipV="1">
            <a:off x="5210280" y="4419360"/>
            <a:ext cx="1440" cy="39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687920" y="4178160"/>
            <a:ext cx="2412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929120" y="4178160"/>
            <a:ext cx="1800" cy="160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673520" y="4157640"/>
            <a:ext cx="3960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913280" y="4317840"/>
            <a:ext cx="4140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 flipV="1">
            <a:off x="4648320" y="3817440"/>
            <a:ext cx="39600" cy="3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4687920" y="3817440"/>
            <a:ext cx="41400" cy="3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H="1" flipV="1">
            <a:off x="5169960" y="3817440"/>
            <a:ext cx="39960" cy="3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5210280" y="3817440"/>
            <a:ext cx="39600" cy="3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293800" y="3825720"/>
            <a:ext cx="1105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768920" y="378612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807800" y="38480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341440" y="5311800"/>
            <a:ext cx="12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`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9" name=""/>
          <p:cNvGrpSpPr/>
          <p:nvPr/>
        </p:nvGrpSpPr>
        <p:grpSpPr>
          <a:xfrm>
            <a:off x="2622600" y="5897520"/>
            <a:ext cx="159840" cy="162000"/>
            <a:chOff x="2622600" y="5897520"/>
            <a:chExt cx="159840" cy="162000"/>
          </a:xfrm>
        </p:grpSpPr>
        <p:sp>
          <p:nvSpPr>
            <p:cNvPr id="800" name=""/>
            <p:cNvSpPr/>
            <p:nvPr/>
          </p:nvSpPr>
          <p:spPr>
            <a:xfrm>
              <a:off x="2701800" y="5897520"/>
              <a:ext cx="108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622600" y="5897520"/>
              <a:ext cx="7920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2622600" y="5977080"/>
              <a:ext cx="7920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622600" y="6058080"/>
              <a:ext cx="39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>
              <a:off x="2622600" y="6017760"/>
              <a:ext cx="1440" cy="3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701800" y="5977080"/>
              <a:ext cx="806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6" name=""/>
          <p:cNvSpPr/>
          <p:nvPr/>
        </p:nvSpPr>
        <p:spPr>
          <a:xfrm>
            <a:off x="2782800" y="5977080"/>
            <a:ext cx="20016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3143160" y="541656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622600" y="5416560"/>
            <a:ext cx="144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622600" y="6058080"/>
            <a:ext cx="1440" cy="401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622600" y="6459480"/>
            <a:ext cx="88272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581200" y="5535720"/>
            <a:ext cx="81000" cy="20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743200" y="5257800"/>
            <a:ext cx="17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489480" y="6438960"/>
            <a:ext cx="4104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606760" y="5396040"/>
            <a:ext cx="4104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129120" y="539604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461680" y="5624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2982600" y="5897520"/>
            <a:ext cx="162360" cy="162000"/>
            <a:chOff x="2982600" y="5897520"/>
            <a:chExt cx="162360" cy="162000"/>
          </a:xfrm>
        </p:grpSpPr>
        <p:sp>
          <p:nvSpPr>
            <p:cNvPr id="818" name=""/>
            <p:cNvSpPr/>
            <p:nvPr/>
          </p:nvSpPr>
          <p:spPr>
            <a:xfrm>
              <a:off x="3063960" y="5897520"/>
              <a:ext cx="180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>
              <a:off x="3063600" y="5897520"/>
              <a:ext cx="7956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063960" y="5977080"/>
              <a:ext cx="7956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>
              <a:off x="3103200" y="6058080"/>
              <a:ext cx="39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3143520" y="6017760"/>
              <a:ext cx="1440" cy="3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2982600" y="5977080"/>
              <a:ext cx="81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4" name=""/>
          <p:cNvSpPr/>
          <p:nvPr/>
        </p:nvSpPr>
        <p:spPr>
          <a:xfrm flipV="1">
            <a:off x="3143160" y="6057720"/>
            <a:ext cx="1800" cy="401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622600" y="5816520"/>
            <a:ext cx="23976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862360" y="5816520"/>
            <a:ext cx="1440" cy="160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606760" y="5797440"/>
            <a:ext cx="41040" cy="3996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847960" y="595800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 flipV="1">
            <a:off x="2583000" y="5456160"/>
            <a:ext cx="3960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V="1">
            <a:off x="2622600" y="5456160"/>
            <a:ext cx="3960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 flipV="1">
            <a:off x="3103560" y="5456160"/>
            <a:ext cx="3960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V="1">
            <a:off x="3143160" y="5456160"/>
            <a:ext cx="4140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224520" y="5464080"/>
            <a:ext cx="26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&lt;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747520" y="5486400"/>
            <a:ext cx="1105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3103560" y="6178680"/>
            <a:ext cx="81000" cy="199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344400" y="55278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202920" y="62150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268800" y="627696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5051520" y="5273280"/>
            <a:ext cx="1440" cy="482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530600" y="5273640"/>
            <a:ext cx="1800" cy="482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4529160" y="5916240"/>
            <a:ext cx="1440" cy="198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530960" y="5162400"/>
            <a:ext cx="17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514760" y="5254560"/>
            <a:ext cx="414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037120" y="525456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V="1">
            <a:off x="5051520" y="5916600"/>
            <a:ext cx="1440" cy="208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4514760" y="5654520"/>
            <a:ext cx="538200" cy="263520"/>
            <a:chOff x="4514760" y="5654520"/>
            <a:chExt cx="538200" cy="263520"/>
          </a:xfrm>
        </p:grpSpPr>
        <p:grpSp>
          <p:nvGrpSpPr>
            <p:cNvPr id="847" name=""/>
            <p:cNvGrpSpPr/>
            <p:nvPr/>
          </p:nvGrpSpPr>
          <p:grpSpPr>
            <a:xfrm>
              <a:off x="4530240" y="5756400"/>
              <a:ext cx="160920" cy="161640"/>
              <a:chOff x="4530240" y="5756400"/>
              <a:chExt cx="160920" cy="161640"/>
            </a:xfrm>
          </p:grpSpPr>
          <p:sp>
            <p:nvSpPr>
              <p:cNvPr id="848" name=""/>
              <p:cNvSpPr/>
              <p:nvPr/>
            </p:nvSpPr>
            <p:spPr>
              <a:xfrm>
                <a:off x="4610160" y="5756400"/>
                <a:ext cx="1440" cy="16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4530600" y="5756400"/>
                <a:ext cx="7956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H="1">
                <a:off x="4530240" y="5835600"/>
                <a:ext cx="79560" cy="8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4530600" y="5916600"/>
                <a:ext cx="399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flipV="1">
                <a:off x="4530600" y="5874840"/>
                <a:ext cx="180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4610160" y="5835600"/>
                <a:ext cx="81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4" name=""/>
            <p:cNvSpPr/>
            <p:nvPr/>
          </p:nvSpPr>
          <p:spPr>
            <a:xfrm>
              <a:off x="4691160" y="5835600"/>
              <a:ext cx="19980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5" name=""/>
            <p:cNvGrpSpPr/>
            <p:nvPr/>
          </p:nvGrpSpPr>
          <p:grpSpPr>
            <a:xfrm>
              <a:off x="4890600" y="5756400"/>
              <a:ext cx="162360" cy="161640"/>
              <a:chOff x="4890600" y="5756400"/>
              <a:chExt cx="162360" cy="161640"/>
            </a:xfrm>
          </p:grpSpPr>
          <p:sp>
            <p:nvSpPr>
              <p:cNvPr id="856" name=""/>
              <p:cNvSpPr/>
              <p:nvPr/>
            </p:nvSpPr>
            <p:spPr>
              <a:xfrm>
                <a:off x="4971960" y="5756400"/>
                <a:ext cx="1800" cy="16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flipH="1">
                <a:off x="4971600" y="5756400"/>
                <a:ext cx="7956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4971960" y="5835600"/>
                <a:ext cx="79560" cy="8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flipH="1">
                <a:off x="5011200" y="5916600"/>
                <a:ext cx="399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V="1">
                <a:off x="5051520" y="5874840"/>
                <a:ext cx="144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flipH="1">
                <a:off x="4890600" y="5835600"/>
                <a:ext cx="81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2" name=""/>
            <p:cNvSpPr/>
            <p:nvPr/>
          </p:nvSpPr>
          <p:spPr>
            <a:xfrm>
              <a:off x="4530600" y="5675400"/>
              <a:ext cx="2397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770360" y="5675400"/>
              <a:ext cx="1800" cy="160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514760" y="5654520"/>
              <a:ext cx="41400" cy="41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756320" y="5815080"/>
              <a:ext cx="39600" cy="410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6" name=""/>
          <p:cNvSpPr/>
          <p:nvPr/>
        </p:nvSpPr>
        <p:spPr>
          <a:xfrm flipH="1" flipV="1">
            <a:off x="4491000" y="5315040"/>
            <a:ext cx="3960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4530600" y="5315040"/>
            <a:ext cx="3996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H="1" flipV="1">
            <a:off x="5011200" y="5315040"/>
            <a:ext cx="3996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V="1">
            <a:off x="5051520" y="5315040"/>
            <a:ext cx="4104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4576320" y="5410080"/>
            <a:ext cx="1105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4397040" y="49863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127120" y="5291280"/>
            <a:ext cx="1105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3" name=""/>
          <p:cNvGrpSpPr/>
          <p:nvPr/>
        </p:nvGrpSpPr>
        <p:grpSpPr>
          <a:xfrm>
            <a:off x="4532040" y="6013440"/>
            <a:ext cx="538560" cy="262080"/>
            <a:chOff x="4532040" y="6013440"/>
            <a:chExt cx="538560" cy="262080"/>
          </a:xfrm>
        </p:grpSpPr>
        <p:grpSp>
          <p:nvGrpSpPr>
            <p:cNvPr id="874" name=""/>
            <p:cNvGrpSpPr/>
            <p:nvPr/>
          </p:nvGrpSpPr>
          <p:grpSpPr>
            <a:xfrm>
              <a:off x="4893840" y="6113520"/>
              <a:ext cx="162360" cy="162000"/>
              <a:chOff x="4893840" y="6113520"/>
              <a:chExt cx="162360" cy="162000"/>
            </a:xfrm>
          </p:grpSpPr>
          <p:sp>
            <p:nvSpPr>
              <p:cNvPr id="875" name=""/>
              <p:cNvSpPr/>
              <p:nvPr/>
            </p:nvSpPr>
            <p:spPr>
              <a:xfrm>
                <a:off x="4973760" y="6113520"/>
                <a:ext cx="1440" cy="16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flipH="1">
                <a:off x="4973400" y="6113520"/>
                <a:ext cx="81000" cy="8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4973760" y="6194520"/>
                <a:ext cx="8100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flipH="1">
                <a:off x="5014440" y="6273720"/>
                <a:ext cx="399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flipV="1">
                <a:off x="5054760" y="6234120"/>
                <a:ext cx="1440" cy="3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flipH="1">
                <a:off x="4893840" y="6194520"/>
                <a:ext cx="795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1" name=""/>
            <p:cNvSpPr/>
            <p:nvPr/>
          </p:nvSpPr>
          <p:spPr>
            <a:xfrm flipH="1">
              <a:off x="4694040" y="6194520"/>
              <a:ext cx="1998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2" name=""/>
            <p:cNvGrpSpPr/>
            <p:nvPr/>
          </p:nvGrpSpPr>
          <p:grpSpPr>
            <a:xfrm>
              <a:off x="4532040" y="6113520"/>
              <a:ext cx="162360" cy="162000"/>
              <a:chOff x="4532040" y="6113520"/>
              <a:chExt cx="162360" cy="162000"/>
            </a:xfrm>
          </p:grpSpPr>
          <p:sp>
            <p:nvSpPr>
              <p:cNvPr id="883" name=""/>
              <p:cNvSpPr/>
              <p:nvPr/>
            </p:nvSpPr>
            <p:spPr>
              <a:xfrm>
                <a:off x="4613400" y="6113520"/>
                <a:ext cx="1440" cy="16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4532400" y="6113520"/>
                <a:ext cx="81000" cy="8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flipH="1">
                <a:off x="4532040" y="6194520"/>
                <a:ext cx="8100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4532400" y="6273720"/>
                <a:ext cx="410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flipV="1">
                <a:off x="4532400" y="6234120"/>
                <a:ext cx="1440" cy="3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4613400" y="6194520"/>
                <a:ext cx="81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9" name=""/>
            <p:cNvSpPr/>
            <p:nvPr/>
          </p:nvSpPr>
          <p:spPr>
            <a:xfrm flipH="1">
              <a:off x="4812840" y="6033960"/>
              <a:ext cx="2415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813200" y="6033960"/>
              <a:ext cx="1800" cy="160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029200" y="6013440"/>
              <a:ext cx="41400" cy="41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788000" y="6173640"/>
              <a:ext cx="41040" cy="41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3" name=""/>
          <p:cNvSpPr/>
          <p:nvPr/>
        </p:nvSpPr>
        <p:spPr>
          <a:xfrm>
            <a:off x="4540320" y="6270480"/>
            <a:ext cx="1440" cy="250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540320" y="6521400"/>
            <a:ext cx="82224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051520" y="6270480"/>
            <a:ext cx="1440" cy="250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262120" y="2590920"/>
            <a:ext cx="2129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ompensacja wpływu temperatu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5565960" y="4267080"/>
            <a:ext cx="113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stro prądo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5418000" y="5486400"/>
            <a:ext cx="210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stro prądowe ze sprzężeni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ądowo-równoległy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99760" y="1407960"/>
            <a:ext cx="119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asada dział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e struktury wzmacniaczy ze sprzężeniami galwaniczny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893880" y="1787400"/>
          <a:ext cx="7358040" cy="328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3880" y="1787400"/>
                    <a:ext cx="7358040" cy="32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3" name=""/>
          <p:cNvSpPr/>
          <p:nvPr/>
        </p:nvSpPr>
        <p:spPr>
          <a:xfrm>
            <a:off x="2544840" y="5580000"/>
            <a:ext cx="2587680" cy="825480"/>
          </a:xfrm>
          <a:prstGeom prst="borderCallout1">
            <a:avLst>
              <a:gd name="adj1" fmla="val 18750"/>
              <a:gd name="adj2" fmla="val -8333"/>
              <a:gd name="adj3" fmla="val -293282"/>
              <a:gd name="adj4" fmla="val -900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suwnik poziomów napię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004440" y="5745240"/>
            <a:ext cx="166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Y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31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stę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68200" y="2297160"/>
            <a:ext cx="8572680" cy="228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zmacniaczem prądu stałego nazywamy wzmacniacz sygnałów zawierających składowe stał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naczej mówiąc sygnałami wejściowymi w takich wzmacniacz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ą napięcia lub prądy, których zmiany mogą następowa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ciągu minut, godzin, it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e struktury wzmacniaczy ze sprzężeniami galwaniczny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6" name=""/>
          <p:cNvGraphicFramePr/>
          <p:nvPr/>
        </p:nvGraphicFramePr>
        <p:xfrm>
          <a:off x="2133720" y="2279520"/>
          <a:ext cx="4114800" cy="341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279520"/>
                    <a:ext cx="411480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8" name=""/>
          <p:cNvSpPr/>
          <p:nvPr/>
        </p:nvSpPr>
        <p:spPr>
          <a:xfrm>
            <a:off x="6172200" y="2597040"/>
            <a:ext cx="2587680" cy="825480"/>
          </a:xfrm>
          <a:prstGeom prst="borderCallout1">
            <a:avLst>
              <a:gd name="adj1" fmla="val 18750"/>
              <a:gd name="adj2" fmla="val -8333"/>
              <a:gd name="adj3" fmla="val 129990"/>
              <a:gd name="adj4" fmla="val -6674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suwnik poziomów napię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6004440" y="5745240"/>
            <a:ext cx="166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Y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e struktury wzmacniaczy ze sprzężeniami galwaniczny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1" name=""/>
          <p:cNvGrpSpPr/>
          <p:nvPr/>
        </p:nvGrpSpPr>
        <p:grpSpPr>
          <a:xfrm>
            <a:off x="2118600" y="2031840"/>
            <a:ext cx="4489560" cy="2819520"/>
            <a:chOff x="2118600" y="2031840"/>
            <a:chExt cx="4489560" cy="2819520"/>
          </a:xfrm>
        </p:grpSpPr>
        <p:grpSp>
          <p:nvGrpSpPr>
            <p:cNvPr id="912" name=""/>
            <p:cNvGrpSpPr/>
            <p:nvPr/>
          </p:nvGrpSpPr>
          <p:grpSpPr>
            <a:xfrm>
              <a:off x="2118600" y="2031840"/>
              <a:ext cx="4489560" cy="2819520"/>
              <a:chOff x="2118600" y="2031840"/>
              <a:chExt cx="4489560" cy="2819520"/>
            </a:xfrm>
          </p:grpSpPr>
          <p:grpSp>
            <p:nvGrpSpPr>
              <p:cNvPr id="913" name=""/>
              <p:cNvGrpSpPr/>
              <p:nvPr/>
            </p:nvGrpSpPr>
            <p:grpSpPr>
              <a:xfrm>
                <a:off x="3564000" y="2107800"/>
                <a:ext cx="152280" cy="1143000"/>
                <a:chOff x="3564000" y="2107800"/>
                <a:chExt cx="152280" cy="1143000"/>
              </a:xfrm>
            </p:grpSpPr>
            <p:sp>
              <p:nvSpPr>
                <p:cNvPr id="914" name=""/>
                <p:cNvSpPr/>
                <p:nvPr/>
              </p:nvSpPr>
              <p:spPr>
                <a:xfrm rot="16200000">
                  <a:off x="3373200" y="2603160"/>
                  <a:ext cx="533520" cy="152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 flipV="1">
                  <a:off x="3639960" y="21078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 flipV="1">
                  <a:off x="3639960" y="2946240"/>
                  <a:ext cx="0" cy="30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7" name=""/>
              <p:cNvGrpSpPr/>
              <p:nvPr/>
            </p:nvGrpSpPr>
            <p:grpSpPr>
              <a:xfrm>
                <a:off x="3411360" y="3250800"/>
                <a:ext cx="228600" cy="457560"/>
                <a:chOff x="3411360" y="3250800"/>
                <a:chExt cx="228600" cy="457560"/>
              </a:xfrm>
            </p:grpSpPr>
            <p:sp>
              <p:nvSpPr>
                <p:cNvPr id="918" name=""/>
                <p:cNvSpPr/>
                <p:nvPr/>
              </p:nvSpPr>
              <p:spPr>
                <a:xfrm>
                  <a:off x="3411360" y="3251160"/>
                  <a:ext cx="0" cy="457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3411360" y="3479760"/>
                  <a:ext cx="22860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 flipV="1">
                  <a:off x="3411360" y="3250800"/>
                  <a:ext cx="22860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1" name=""/>
              <p:cNvSpPr/>
              <p:nvPr/>
            </p:nvSpPr>
            <p:spPr>
              <a:xfrm>
                <a:off x="3487680" y="485136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5621400" y="35560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3" name=""/>
              <p:cNvGrpSpPr/>
              <p:nvPr/>
            </p:nvGrpSpPr>
            <p:grpSpPr>
              <a:xfrm>
                <a:off x="4782960" y="2870280"/>
                <a:ext cx="228600" cy="457560"/>
                <a:chOff x="4782960" y="2870280"/>
                <a:chExt cx="228600" cy="457560"/>
              </a:xfrm>
            </p:grpSpPr>
            <p:sp>
              <p:nvSpPr>
                <p:cNvPr id="924" name=""/>
                <p:cNvSpPr/>
                <p:nvPr/>
              </p:nvSpPr>
              <p:spPr>
                <a:xfrm flipV="1">
                  <a:off x="4782960" y="2870280"/>
                  <a:ext cx="0" cy="457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 flipV="1">
                  <a:off x="4782960" y="2870280"/>
                  <a:ext cx="22860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4782960" y="3099240"/>
                  <a:ext cx="22860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7" name=""/>
              <p:cNvSpPr/>
              <p:nvPr/>
            </p:nvSpPr>
            <p:spPr>
              <a:xfrm>
                <a:off x="3639960" y="2108160"/>
                <a:ext cx="213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011560" y="210816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639960" y="309888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0" name=""/>
              <p:cNvGrpSpPr/>
              <p:nvPr/>
            </p:nvGrpSpPr>
            <p:grpSpPr>
              <a:xfrm>
                <a:off x="3564000" y="3708000"/>
                <a:ext cx="152280" cy="1143000"/>
                <a:chOff x="3564000" y="3708000"/>
                <a:chExt cx="152280" cy="1143000"/>
              </a:xfrm>
            </p:grpSpPr>
            <p:sp>
              <p:nvSpPr>
                <p:cNvPr id="931" name=""/>
                <p:cNvSpPr/>
                <p:nvPr/>
              </p:nvSpPr>
              <p:spPr>
                <a:xfrm rot="16200000">
                  <a:off x="3373200" y="4203360"/>
                  <a:ext cx="533520" cy="152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 flipV="1">
                  <a:off x="3639960" y="37080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 flipV="1">
                  <a:off x="3639960" y="4546440"/>
                  <a:ext cx="0" cy="30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4" name=""/>
              <p:cNvGrpSpPr/>
              <p:nvPr/>
            </p:nvGrpSpPr>
            <p:grpSpPr>
              <a:xfrm>
                <a:off x="4935600" y="3708000"/>
                <a:ext cx="152280" cy="1143000"/>
                <a:chOff x="4935600" y="3708000"/>
                <a:chExt cx="152280" cy="1143000"/>
              </a:xfrm>
            </p:grpSpPr>
            <p:sp>
              <p:nvSpPr>
                <p:cNvPr id="935" name=""/>
                <p:cNvSpPr/>
                <p:nvPr/>
              </p:nvSpPr>
              <p:spPr>
                <a:xfrm rot="16200000">
                  <a:off x="4744800" y="4203360"/>
                  <a:ext cx="533520" cy="152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 flipV="1">
                  <a:off x="5011560" y="37080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 flipV="1">
                  <a:off x="5011560" y="4546440"/>
                  <a:ext cx="0" cy="30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8" name=""/>
              <p:cNvSpPr/>
              <p:nvPr/>
            </p:nvSpPr>
            <p:spPr>
              <a:xfrm>
                <a:off x="4859280" y="485136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flipV="1">
                <a:off x="5011560" y="332712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flipH="1">
                <a:off x="2877840" y="347976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5011560" y="3632040"/>
                <a:ext cx="609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725560" y="3403440"/>
                <a:ext cx="152640" cy="152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5773680" y="2031840"/>
                <a:ext cx="152280" cy="152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4973760" y="361152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3605040" y="308124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2118600" y="3840120"/>
                <a:ext cx="6746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W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913720" y="3416400"/>
                <a:ext cx="694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W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8" name=""/>
            <p:cNvSpPr/>
            <p:nvPr/>
          </p:nvSpPr>
          <p:spPr>
            <a:xfrm>
              <a:off x="4973760" y="207648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9" name=""/>
          <p:cNvSpPr/>
          <p:nvPr/>
        </p:nvSpPr>
        <p:spPr>
          <a:xfrm>
            <a:off x="6074280" y="4103640"/>
            <a:ext cx="166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Y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188040" y="1938240"/>
            <a:ext cx="604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gadnienie zerowych napięć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720800" y="998640"/>
            <a:ext cx="637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. Stosowanie dwóch źródeł zasilających (np. rys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. Wykorzystanie wzmacniacza różnicow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3" name=""/>
          <p:cNvGrpSpPr/>
          <p:nvPr/>
        </p:nvGrpSpPr>
        <p:grpSpPr>
          <a:xfrm>
            <a:off x="2873520" y="2198160"/>
            <a:ext cx="129960" cy="917640"/>
            <a:chOff x="2873520" y="2198160"/>
            <a:chExt cx="129960" cy="917640"/>
          </a:xfrm>
        </p:grpSpPr>
        <p:sp>
          <p:nvSpPr>
            <p:cNvPr id="954" name=""/>
            <p:cNvSpPr/>
            <p:nvPr/>
          </p:nvSpPr>
          <p:spPr>
            <a:xfrm rot="16200000">
              <a:off x="2724480" y="2592360"/>
              <a:ext cx="428040" cy="129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V="1">
              <a:off x="2938320" y="2198160"/>
              <a:ext cx="0" cy="24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 flipV="1">
              <a:off x="2938320" y="2871360"/>
              <a:ext cx="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7" name=""/>
          <p:cNvGrpSpPr/>
          <p:nvPr/>
        </p:nvGrpSpPr>
        <p:grpSpPr>
          <a:xfrm>
            <a:off x="2743200" y="3115800"/>
            <a:ext cx="195120" cy="367200"/>
            <a:chOff x="2743200" y="3115800"/>
            <a:chExt cx="195120" cy="367200"/>
          </a:xfrm>
        </p:grpSpPr>
        <p:sp>
          <p:nvSpPr>
            <p:cNvPr id="958" name=""/>
            <p:cNvSpPr/>
            <p:nvPr/>
          </p:nvSpPr>
          <p:spPr>
            <a:xfrm>
              <a:off x="2743200" y="3116160"/>
              <a:ext cx="0" cy="36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743200" y="3299400"/>
              <a:ext cx="195120" cy="1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flipV="1">
              <a:off x="2743200" y="3115800"/>
              <a:ext cx="195120" cy="1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1" name=""/>
          <p:cNvSpPr/>
          <p:nvPr/>
        </p:nvSpPr>
        <p:spPr>
          <a:xfrm>
            <a:off x="2038320" y="4610160"/>
            <a:ext cx="260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4632480" y="3360600"/>
            <a:ext cx="12996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3914640" y="2809440"/>
            <a:ext cx="195480" cy="367200"/>
            <a:chOff x="3914640" y="2809440"/>
            <a:chExt cx="195480" cy="367200"/>
          </a:xfrm>
        </p:grpSpPr>
        <p:sp>
          <p:nvSpPr>
            <p:cNvPr id="964" name=""/>
            <p:cNvSpPr/>
            <p:nvPr/>
          </p:nvSpPr>
          <p:spPr>
            <a:xfrm flipV="1">
              <a:off x="3914640" y="2809440"/>
              <a:ext cx="0" cy="36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flipV="1">
              <a:off x="3914640" y="2809800"/>
              <a:ext cx="195480" cy="1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914640" y="2993400"/>
              <a:ext cx="195480" cy="1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7" name=""/>
          <p:cNvSpPr/>
          <p:nvPr/>
        </p:nvSpPr>
        <p:spPr>
          <a:xfrm>
            <a:off x="2938320" y="2198520"/>
            <a:ext cx="182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110120" y="2198520"/>
            <a:ext cx="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938320" y="2994120"/>
            <a:ext cx="9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0" name=""/>
          <p:cNvGrpSpPr/>
          <p:nvPr/>
        </p:nvGrpSpPr>
        <p:grpSpPr>
          <a:xfrm>
            <a:off x="2873520" y="3483360"/>
            <a:ext cx="129960" cy="915480"/>
            <a:chOff x="2873520" y="3483360"/>
            <a:chExt cx="129960" cy="915480"/>
          </a:xfrm>
        </p:grpSpPr>
        <p:sp>
          <p:nvSpPr>
            <p:cNvPr id="971" name=""/>
            <p:cNvSpPr/>
            <p:nvPr/>
          </p:nvSpPr>
          <p:spPr>
            <a:xfrm rot="16200000">
              <a:off x="2724840" y="3876480"/>
              <a:ext cx="427320" cy="129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 flipV="1">
              <a:off x="2938320" y="3483360"/>
              <a:ext cx="0" cy="24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 flipV="1">
              <a:off x="2938320" y="4155120"/>
              <a:ext cx="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4044960" y="3483360"/>
            <a:ext cx="130320" cy="915480"/>
            <a:chOff x="4044960" y="3483360"/>
            <a:chExt cx="130320" cy="915480"/>
          </a:xfrm>
        </p:grpSpPr>
        <p:sp>
          <p:nvSpPr>
            <p:cNvPr id="975" name=""/>
            <p:cNvSpPr/>
            <p:nvPr/>
          </p:nvSpPr>
          <p:spPr>
            <a:xfrm rot="16200000">
              <a:off x="3896280" y="3876120"/>
              <a:ext cx="427320" cy="130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flipV="1">
              <a:off x="4110120" y="3483360"/>
              <a:ext cx="0" cy="24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flipV="1">
              <a:off x="4110120" y="4155120"/>
              <a:ext cx="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 flipV="1">
            <a:off x="4110120" y="317664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 flipH="1">
            <a:off x="2286000" y="329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110120" y="3421080"/>
            <a:ext cx="52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155680" y="3238560"/>
            <a:ext cx="13032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4762440" y="2138400"/>
            <a:ext cx="13032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4078440" y="3405240"/>
            <a:ext cx="6480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908440" y="2979720"/>
            <a:ext cx="6480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1464480" y="358776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831200" y="361800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078440" y="2173320"/>
            <a:ext cx="6480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2949480" y="5221440"/>
            <a:ext cx="177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4726080" y="5159520"/>
            <a:ext cx="13176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071960" y="5181480"/>
            <a:ext cx="6516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110120" y="4327560"/>
            <a:ext cx="0" cy="90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2933640" y="4313160"/>
            <a:ext cx="0" cy="90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193840" y="4370400"/>
            <a:ext cx="405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2179800" y="4370400"/>
            <a:ext cx="0" cy="25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5" name=""/>
          <p:cNvGrpSpPr/>
          <p:nvPr/>
        </p:nvGrpSpPr>
        <p:grpSpPr>
          <a:xfrm>
            <a:off x="5991120" y="4633920"/>
            <a:ext cx="520920" cy="488880"/>
            <a:chOff x="5991120" y="4633920"/>
            <a:chExt cx="520920" cy="488880"/>
          </a:xfrm>
        </p:grpSpPr>
        <p:sp>
          <p:nvSpPr>
            <p:cNvPr id="996" name=""/>
            <p:cNvSpPr/>
            <p:nvPr/>
          </p:nvSpPr>
          <p:spPr>
            <a:xfrm>
              <a:off x="5991120" y="4633920"/>
              <a:ext cx="520920" cy="488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V="1">
              <a:off x="6251760" y="4755600"/>
              <a:ext cx="0" cy="244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8" name=""/>
          <p:cNvGrpSpPr/>
          <p:nvPr/>
        </p:nvGrpSpPr>
        <p:grpSpPr>
          <a:xfrm>
            <a:off x="5970600" y="2478240"/>
            <a:ext cx="522360" cy="488880"/>
            <a:chOff x="5970600" y="2478240"/>
            <a:chExt cx="522360" cy="488880"/>
          </a:xfrm>
        </p:grpSpPr>
        <p:sp>
          <p:nvSpPr>
            <p:cNvPr id="999" name=""/>
            <p:cNvSpPr/>
            <p:nvPr/>
          </p:nvSpPr>
          <p:spPr>
            <a:xfrm>
              <a:off x="5970600" y="2478240"/>
              <a:ext cx="522360" cy="488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V="1">
              <a:off x="6231960" y="2599920"/>
              <a:ext cx="0" cy="244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1" name=""/>
          <p:cNvSpPr/>
          <p:nvPr/>
        </p:nvSpPr>
        <p:spPr>
          <a:xfrm>
            <a:off x="6235560" y="2970360"/>
            <a:ext cx="0" cy="168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4863960" y="5232240"/>
            <a:ext cx="13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 flipV="1">
            <a:off x="6249960" y="5119200"/>
            <a:ext cx="0" cy="11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908600" y="2219400"/>
            <a:ext cx="131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221520" y="2233440"/>
            <a:ext cx="0" cy="25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200640" y="4334040"/>
            <a:ext cx="6516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630120" y="2443320"/>
            <a:ext cx="63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6667920" y="4729320"/>
            <a:ext cx="61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V="1">
            <a:off x="2209680" y="3449520"/>
            <a:ext cx="0" cy="8496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flipV="1">
            <a:off x="4676760" y="3501720"/>
            <a:ext cx="0" cy="77940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1" name=""/>
          <p:cNvGrpSpPr/>
          <p:nvPr/>
        </p:nvGrpSpPr>
        <p:grpSpPr>
          <a:xfrm>
            <a:off x="6256440" y="4250160"/>
            <a:ext cx="271440" cy="244440"/>
            <a:chOff x="6256440" y="4250160"/>
            <a:chExt cx="271440" cy="244440"/>
          </a:xfrm>
        </p:grpSpPr>
        <p:sp>
          <p:nvSpPr>
            <p:cNvPr id="1012" name=""/>
            <p:cNvSpPr/>
            <p:nvPr/>
          </p:nvSpPr>
          <p:spPr>
            <a:xfrm flipV="1">
              <a:off x="6512760" y="4250160"/>
              <a:ext cx="0" cy="244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256440" y="4361400"/>
              <a:ext cx="27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4" name=""/>
          <p:cNvSpPr/>
          <p:nvPr/>
        </p:nvSpPr>
        <p:spPr>
          <a:xfrm>
            <a:off x="2577960" y="5692680"/>
            <a:ext cx="4515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żna uzyskać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 przy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845400" y="1393920"/>
            <a:ext cx="1092240" cy="2063520"/>
          </a:xfrm>
          <a:custGeom>
            <a:avLst/>
            <a:gdLst/>
            <a:ahLst/>
            <a:rect l="l" t="t" r="r" b="b"/>
            <a:pathLst>
              <a:path w="688" h="1300">
                <a:moveTo>
                  <a:pt x="600" y="0"/>
                </a:moveTo>
                <a:cubicBezTo>
                  <a:pt x="644" y="175"/>
                  <a:pt x="688" y="350"/>
                  <a:pt x="666" y="511"/>
                </a:cubicBezTo>
                <a:cubicBezTo>
                  <a:pt x="644" y="672"/>
                  <a:pt x="577" y="835"/>
                  <a:pt x="466" y="966"/>
                </a:cubicBezTo>
                <a:cubicBezTo>
                  <a:pt x="355" y="1097"/>
                  <a:pt x="177" y="1198"/>
                  <a:pt x="0" y="1300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apięcia niezrównoważe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3016080" y="1182600"/>
            <a:ext cx="0" cy="400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600120" y="3298680"/>
            <a:ext cx="520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035040" y="311796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213360" y="101916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811080" y="3298680"/>
            <a:ext cx="2205000" cy="1570320"/>
          </a:xfrm>
          <a:custGeom>
            <a:avLst/>
            <a:gdLst/>
            <a:ahLst/>
            <a:rect l="l" t="t" r="r" b="b"/>
            <a:pathLst>
              <a:path w="1389" h="989">
                <a:moveTo>
                  <a:pt x="0" y="989"/>
                </a:moveTo>
                <a:cubicBezTo>
                  <a:pt x="318" y="949"/>
                  <a:pt x="636" y="909"/>
                  <a:pt x="867" y="744"/>
                </a:cubicBezTo>
                <a:cubicBezTo>
                  <a:pt x="1098" y="579"/>
                  <a:pt x="1302" y="122"/>
                  <a:pt x="1389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rot="10800000">
            <a:off x="3018960" y="1714320"/>
            <a:ext cx="2205000" cy="1569960"/>
          </a:xfrm>
          <a:custGeom>
            <a:avLst/>
            <a:gdLst/>
            <a:ahLst/>
            <a:rect l="l" t="t" r="r" b="b"/>
            <a:pathLst>
              <a:path w="1389" h="989">
                <a:moveTo>
                  <a:pt x="0" y="989"/>
                </a:moveTo>
                <a:cubicBezTo>
                  <a:pt x="318" y="949"/>
                  <a:pt x="636" y="909"/>
                  <a:pt x="867" y="744"/>
                </a:cubicBezTo>
                <a:cubicBezTo>
                  <a:pt x="1098" y="579"/>
                  <a:pt x="1302" y="122"/>
                  <a:pt x="1389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3" name=""/>
          <p:cNvGrpSpPr/>
          <p:nvPr/>
        </p:nvGrpSpPr>
        <p:grpSpPr>
          <a:xfrm>
            <a:off x="1333440" y="1725120"/>
            <a:ext cx="4412880" cy="3154680"/>
            <a:chOff x="1333440" y="1725120"/>
            <a:chExt cx="4412880" cy="3154680"/>
          </a:xfrm>
        </p:grpSpPr>
        <p:sp>
          <p:nvSpPr>
            <p:cNvPr id="1024" name=""/>
            <p:cNvSpPr/>
            <p:nvPr/>
          </p:nvSpPr>
          <p:spPr>
            <a:xfrm>
              <a:off x="1333440" y="3309840"/>
              <a:ext cx="2205000" cy="1569960"/>
            </a:xfrm>
            <a:custGeom>
              <a:avLst/>
              <a:gdLst/>
              <a:ahLst/>
              <a:rect l="l" t="t" r="r" b="b"/>
              <a:pathLst>
                <a:path w="1389" h="989">
                  <a:moveTo>
                    <a:pt x="0" y="989"/>
                  </a:moveTo>
                  <a:cubicBezTo>
                    <a:pt x="318" y="949"/>
                    <a:pt x="636" y="909"/>
                    <a:pt x="867" y="744"/>
                  </a:cubicBezTo>
                  <a:cubicBezTo>
                    <a:pt x="1098" y="579"/>
                    <a:pt x="1302" y="122"/>
                    <a:pt x="1389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rot="10800000">
              <a:off x="3541320" y="1725120"/>
              <a:ext cx="2205000" cy="1569960"/>
            </a:xfrm>
            <a:custGeom>
              <a:avLst/>
              <a:gdLst/>
              <a:ahLst/>
              <a:rect l="l" t="t" r="r" b="b"/>
              <a:pathLst>
                <a:path w="1389" h="989">
                  <a:moveTo>
                    <a:pt x="0" y="989"/>
                  </a:moveTo>
                  <a:cubicBezTo>
                    <a:pt x="318" y="949"/>
                    <a:pt x="636" y="909"/>
                    <a:pt x="867" y="744"/>
                  </a:cubicBezTo>
                  <a:cubicBezTo>
                    <a:pt x="1098" y="579"/>
                    <a:pt x="1302" y="122"/>
                    <a:pt x="1389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6" name=""/>
          <p:cNvSpPr/>
          <p:nvPr/>
        </p:nvSpPr>
        <p:spPr>
          <a:xfrm>
            <a:off x="3146400" y="2835360"/>
            <a:ext cx="52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016080" y="3316320"/>
            <a:ext cx="546120" cy="0"/>
          </a:xfrm>
          <a:prstGeom prst="line">
            <a:avLst/>
          </a:prstGeom>
          <a:ln w="38160">
            <a:solidFill>
              <a:srgbClr val="00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1568520" y="5511960"/>
            <a:ext cx="56732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wejściowe napięcie niezrównoważ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ON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wyjściowe napięcie niezrównoważ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222360" y="4011480"/>
            <a:ext cx="578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V="1">
            <a:off x="3016080" y="3315960"/>
            <a:ext cx="0" cy="8636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1" name=""/>
              <p:cNvSpPr txBox="1"/>
              <p:nvPr/>
            </p:nvSpPr>
            <p:spPr>
              <a:xfrm>
                <a:off x="5014800" y="3697200"/>
                <a:ext cx="158112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32" name=""/>
          <p:cNvSpPr/>
          <p:nvPr/>
        </p:nvSpPr>
        <p:spPr>
          <a:xfrm>
            <a:off x="3898800" y="2768760"/>
            <a:ext cx="211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 flipV="1">
            <a:off x="3898800" y="2346120"/>
            <a:ext cx="731880" cy="42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4621320" y="236376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946760" y="2252520"/>
            <a:ext cx="52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6" name=""/>
              <p:cNvSpPr txBox="1"/>
              <p:nvPr/>
            </p:nvSpPr>
            <p:spPr>
              <a:xfrm>
                <a:off x="5033880" y="4761000"/>
                <a:ext cx="260820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różnic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8" name=""/>
          <p:cNvGrpSpPr/>
          <p:nvPr/>
        </p:nvGrpSpPr>
        <p:grpSpPr>
          <a:xfrm>
            <a:off x="945720" y="1085760"/>
            <a:ext cx="4521240" cy="1866960"/>
            <a:chOff x="945720" y="1085760"/>
            <a:chExt cx="4521240" cy="1866960"/>
          </a:xfrm>
        </p:grpSpPr>
        <p:sp>
          <p:nvSpPr>
            <p:cNvPr id="1039" name=""/>
            <p:cNvSpPr/>
            <p:nvPr/>
          </p:nvSpPr>
          <p:spPr>
            <a:xfrm>
              <a:off x="2641680" y="1351080"/>
              <a:ext cx="990720" cy="1143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098880" y="2494080"/>
              <a:ext cx="144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022560" y="2722680"/>
              <a:ext cx="1526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H="1">
              <a:off x="1270080" y="1503360"/>
              <a:ext cx="1371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3" name=""/>
            <p:cNvGrpSpPr/>
            <p:nvPr/>
          </p:nvGrpSpPr>
          <p:grpSpPr>
            <a:xfrm>
              <a:off x="1193760" y="2798640"/>
              <a:ext cx="152640" cy="154080"/>
              <a:chOff x="1193760" y="2798640"/>
              <a:chExt cx="152640" cy="154080"/>
            </a:xfrm>
          </p:grpSpPr>
          <p:sp>
            <p:nvSpPr>
              <p:cNvPr id="1044" name=""/>
              <p:cNvSpPr/>
              <p:nvPr/>
            </p:nvSpPr>
            <p:spPr>
              <a:xfrm>
                <a:off x="1270080" y="2798640"/>
                <a:ext cx="1440" cy="15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1193760" y="2951280"/>
                <a:ext cx="15264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6" name=""/>
            <p:cNvGrpSpPr/>
            <p:nvPr/>
          </p:nvGrpSpPr>
          <p:grpSpPr>
            <a:xfrm>
              <a:off x="1727280" y="2798640"/>
              <a:ext cx="152280" cy="154080"/>
              <a:chOff x="1727280" y="2798640"/>
              <a:chExt cx="152280" cy="154080"/>
            </a:xfrm>
          </p:grpSpPr>
          <p:sp>
            <p:nvSpPr>
              <p:cNvPr id="1047" name=""/>
              <p:cNvSpPr/>
              <p:nvPr/>
            </p:nvSpPr>
            <p:spPr>
              <a:xfrm>
                <a:off x="1803600" y="2798640"/>
                <a:ext cx="1440" cy="15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1727280" y="2951280"/>
                <a:ext cx="15228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9" name=""/>
            <p:cNvSpPr/>
            <p:nvPr/>
          </p:nvSpPr>
          <p:spPr>
            <a:xfrm flipH="1">
              <a:off x="1803600" y="2341440"/>
              <a:ext cx="8380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244520" y="1476360"/>
              <a:ext cx="5256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244520" y="2762280"/>
              <a:ext cx="5256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778040" y="2762280"/>
              <a:ext cx="5256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778040" y="2314440"/>
              <a:ext cx="5256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632400" y="1503360"/>
              <a:ext cx="1371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5" name=""/>
            <p:cNvGrpSpPr/>
            <p:nvPr/>
          </p:nvGrpSpPr>
          <p:grpSpPr>
            <a:xfrm>
              <a:off x="4927320" y="2798640"/>
              <a:ext cx="152280" cy="154080"/>
              <a:chOff x="4927320" y="2798640"/>
              <a:chExt cx="152280" cy="154080"/>
            </a:xfrm>
          </p:grpSpPr>
          <p:sp>
            <p:nvSpPr>
              <p:cNvPr id="1056" name=""/>
              <p:cNvSpPr/>
              <p:nvPr/>
            </p:nvSpPr>
            <p:spPr>
              <a:xfrm>
                <a:off x="5004000" y="2798640"/>
                <a:ext cx="1440" cy="15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 flipH="1">
                <a:off x="4927320" y="2951280"/>
                <a:ext cx="15228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8" name=""/>
            <p:cNvGrpSpPr/>
            <p:nvPr/>
          </p:nvGrpSpPr>
          <p:grpSpPr>
            <a:xfrm>
              <a:off x="4394160" y="2798640"/>
              <a:ext cx="152640" cy="154080"/>
              <a:chOff x="4394160" y="2798640"/>
              <a:chExt cx="152640" cy="154080"/>
            </a:xfrm>
          </p:grpSpPr>
          <p:sp>
            <p:nvSpPr>
              <p:cNvPr id="1059" name=""/>
              <p:cNvSpPr/>
              <p:nvPr/>
            </p:nvSpPr>
            <p:spPr>
              <a:xfrm>
                <a:off x="4470480" y="2798640"/>
                <a:ext cx="1440" cy="15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flipH="1">
                <a:off x="4394160" y="2951280"/>
                <a:ext cx="15264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1" name=""/>
            <p:cNvSpPr/>
            <p:nvPr/>
          </p:nvSpPr>
          <p:spPr>
            <a:xfrm>
              <a:off x="3632400" y="2341440"/>
              <a:ext cx="8380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977000" y="1476360"/>
              <a:ext cx="5220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986360" y="2762280"/>
              <a:ext cx="5256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443480" y="2762280"/>
              <a:ext cx="5220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443480" y="2314440"/>
              <a:ext cx="5220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679840" y="1433520"/>
              <a:ext cx="82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e1        wy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679840" y="2233440"/>
              <a:ext cx="82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e2        wy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945720" y="21765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041440" y="20811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946320" y="24811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137200" y="2163600"/>
              <a:ext cx="32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Y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060920" y="2297160"/>
              <a:ext cx="313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E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060800" y="2583000"/>
              <a:ext cx="32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Y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994400" y="2620800"/>
              <a:ext cx="313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E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898280" y="25002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V="1">
              <a:off x="1406520" y="165708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V="1">
              <a:off x="1816200" y="2428920"/>
              <a:ext cx="0" cy="28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V="1">
              <a:off x="4464000" y="2428560"/>
              <a:ext cx="0" cy="27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V="1">
              <a:off x="4997520" y="1628640"/>
              <a:ext cx="0" cy="98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V="1">
              <a:off x="4464000" y="1590840"/>
              <a:ext cx="0" cy="5997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199760" y="1104840"/>
              <a:ext cx="566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W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707480" y="10857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3333cc"/>
                  </a:solidFill>
                  <a:latin typeface="Times New Roman"/>
                </a:rPr>
                <a:t>U</a:t>
              </a:r>
              <a:r>
                <a:rPr b="0" lang="pl-PL" sz="1800" spc="-1" strike="noStrike" baseline="-25000">
                  <a:solidFill>
                    <a:srgbClr val="3333cc"/>
                  </a:solidFill>
                  <a:latin typeface="Times New Roman"/>
                </a:rPr>
                <a:t>W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V="1">
              <a:off x="1825560" y="1542600"/>
              <a:ext cx="0" cy="6858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84" name=""/>
              <p:cNvSpPr txBox="1"/>
              <p:nvPr/>
            </p:nvSpPr>
            <p:spPr>
              <a:xfrm>
                <a:off x="5916600" y="1262160"/>
                <a:ext cx="2836800" cy="15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85" name=""/>
          <p:cNvSpPr/>
          <p:nvPr/>
        </p:nvSpPr>
        <p:spPr>
          <a:xfrm flipH="1">
            <a:off x="1521000" y="4713120"/>
            <a:ext cx="3981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V="1">
            <a:off x="1521000" y="4713120"/>
            <a:ext cx="1440" cy="90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1919160" y="4259160"/>
            <a:ext cx="3240" cy="99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1919160" y="4259160"/>
            <a:ext cx="1798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9" name=""/>
          <p:cNvGrpSpPr/>
          <p:nvPr/>
        </p:nvGrpSpPr>
        <p:grpSpPr>
          <a:xfrm>
            <a:off x="1420920" y="5619600"/>
            <a:ext cx="199440" cy="182160"/>
            <a:chOff x="1420920" y="5619600"/>
            <a:chExt cx="199440" cy="182160"/>
          </a:xfrm>
        </p:grpSpPr>
        <p:sp>
          <p:nvSpPr>
            <p:cNvPr id="1090" name=""/>
            <p:cNvSpPr/>
            <p:nvPr/>
          </p:nvSpPr>
          <p:spPr>
            <a:xfrm>
              <a:off x="1520280" y="5619600"/>
              <a:ext cx="2160" cy="18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420920" y="5799960"/>
              <a:ext cx="199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2" name=""/>
          <p:cNvSpPr/>
          <p:nvPr/>
        </p:nvSpPr>
        <p:spPr>
          <a:xfrm>
            <a:off x="1919160" y="5256360"/>
            <a:ext cx="1798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1886040" y="4227480"/>
            <a:ext cx="6984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1487520" y="5575320"/>
            <a:ext cx="68400" cy="74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718080" y="4259160"/>
            <a:ext cx="11001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718080" y="5256360"/>
            <a:ext cx="11001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7" name=""/>
          <p:cNvGrpSpPr/>
          <p:nvPr/>
        </p:nvGrpSpPr>
        <p:grpSpPr>
          <a:xfrm>
            <a:off x="3019320" y="4078440"/>
            <a:ext cx="1298160" cy="1632960"/>
            <a:chOff x="3019320" y="4078440"/>
            <a:chExt cx="1298160" cy="1632960"/>
          </a:xfrm>
        </p:grpSpPr>
        <p:sp>
          <p:nvSpPr>
            <p:cNvPr id="1098" name=""/>
            <p:cNvSpPr/>
            <p:nvPr/>
          </p:nvSpPr>
          <p:spPr>
            <a:xfrm>
              <a:off x="3019320" y="4078440"/>
              <a:ext cx="1298160" cy="1359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618360" y="5437800"/>
              <a:ext cx="2160" cy="27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518640" y="5709960"/>
              <a:ext cx="199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066480" y="4176360"/>
              <a:ext cx="82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e1        wy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066480" y="5127840"/>
              <a:ext cx="82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e2        wy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3" name=""/>
          <p:cNvGrpSpPr/>
          <p:nvPr/>
        </p:nvGrpSpPr>
        <p:grpSpPr>
          <a:xfrm>
            <a:off x="1370160" y="4938840"/>
            <a:ext cx="299520" cy="272520"/>
            <a:chOff x="1370160" y="4938840"/>
            <a:chExt cx="299520" cy="272520"/>
          </a:xfrm>
        </p:grpSpPr>
        <p:sp>
          <p:nvSpPr>
            <p:cNvPr id="1104" name=""/>
            <p:cNvSpPr/>
            <p:nvPr/>
          </p:nvSpPr>
          <p:spPr>
            <a:xfrm>
              <a:off x="1370160" y="4938840"/>
              <a:ext cx="299520" cy="2725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443960" y="4953960"/>
              <a:ext cx="83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6" name=""/>
          <p:cNvGrpSpPr/>
          <p:nvPr/>
        </p:nvGrpSpPr>
        <p:grpSpPr>
          <a:xfrm>
            <a:off x="2270160" y="5121360"/>
            <a:ext cx="299520" cy="271080"/>
            <a:chOff x="2270160" y="5121360"/>
            <a:chExt cx="299520" cy="271080"/>
          </a:xfrm>
        </p:grpSpPr>
        <p:sp>
          <p:nvSpPr>
            <p:cNvPr id="1107" name=""/>
            <p:cNvSpPr/>
            <p:nvPr/>
          </p:nvSpPr>
          <p:spPr>
            <a:xfrm>
              <a:off x="2270160" y="5121360"/>
              <a:ext cx="299520" cy="2710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342520" y="5136120"/>
              <a:ext cx="83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9" name=""/>
          <p:cNvSpPr/>
          <p:nvPr/>
        </p:nvSpPr>
        <p:spPr>
          <a:xfrm>
            <a:off x="1886040" y="5224320"/>
            <a:ext cx="6984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1886040" y="4680000"/>
            <a:ext cx="69840" cy="74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1" name=""/>
          <p:cNvGrpSpPr/>
          <p:nvPr/>
        </p:nvGrpSpPr>
        <p:grpSpPr>
          <a:xfrm>
            <a:off x="2270160" y="4124160"/>
            <a:ext cx="299520" cy="271440"/>
            <a:chOff x="2270160" y="4124160"/>
            <a:chExt cx="299520" cy="271440"/>
          </a:xfrm>
        </p:grpSpPr>
        <p:sp>
          <p:nvSpPr>
            <p:cNvPr id="1112" name=""/>
            <p:cNvSpPr/>
            <p:nvPr/>
          </p:nvSpPr>
          <p:spPr>
            <a:xfrm>
              <a:off x="2270160" y="4124160"/>
              <a:ext cx="299520" cy="2714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342520" y="4139280"/>
              <a:ext cx="83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4" name=""/>
          <p:cNvSpPr/>
          <p:nvPr/>
        </p:nvSpPr>
        <p:spPr>
          <a:xfrm>
            <a:off x="2119320" y="5438880"/>
            <a:ext cx="60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V="1">
            <a:off x="2119320" y="5346720"/>
            <a:ext cx="100080" cy="92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2119320" y="5438880"/>
            <a:ext cx="100080" cy="90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7" name=""/>
          <p:cNvGrpSpPr/>
          <p:nvPr/>
        </p:nvGrpSpPr>
        <p:grpSpPr>
          <a:xfrm>
            <a:off x="2144520" y="3965400"/>
            <a:ext cx="599400" cy="180720"/>
            <a:chOff x="2144520" y="3965400"/>
            <a:chExt cx="599400" cy="180720"/>
          </a:xfrm>
        </p:grpSpPr>
        <p:sp>
          <p:nvSpPr>
            <p:cNvPr id="1118" name=""/>
            <p:cNvSpPr/>
            <p:nvPr/>
          </p:nvSpPr>
          <p:spPr>
            <a:xfrm flipH="1">
              <a:off x="2144520" y="4056120"/>
              <a:ext cx="599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H="1" flipV="1">
              <a:off x="2644560" y="3965400"/>
              <a:ext cx="9936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 flipH="1">
              <a:off x="2644560" y="4056120"/>
              <a:ext cx="99360" cy="90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1" name=""/>
          <p:cNvSpPr/>
          <p:nvPr/>
        </p:nvSpPr>
        <p:spPr>
          <a:xfrm flipV="1">
            <a:off x="4782960" y="4438800"/>
            <a:ext cx="0" cy="7142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4344120" y="3348000"/>
            <a:ext cx="566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Times New Roman"/>
              </a:rPr>
              <a:t>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726640" y="3324240"/>
            <a:ext cx="59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pl-PL" sz="1800" spc="-1" strike="noStrike" baseline="-25000">
                <a:solidFill>
                  <a:srgbClr val="3333cc"/>
                </a:solidFill>
                <a:latin typeface="Times New Roman"/>
              </a:rPr>
              <a:t>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flipV="1">
            <a:off x="2805120" y="4320720"/>
            <a:ext cx="0" cy="8161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5" name=""/>
              <p:cNvSpPr txBox="1"/>
              <p:nvPr/>
            </p:nvSpPr>
            <p:spPr>
              <a:xfrm>
                <a:off x="1986120" y="3301920"/>
                <a:ext cx="70632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6" name=""/>
              <p:cNvSpPr txBox="1"/>
              <p:nvPr/>
            </p:nvSpPr>
            <p:spPr>
              <a:xfrm>
                <a:off x="2049480" y="5508720"/>
                <a:ext cx="74304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"/>
              <p:cNvSpPr txBox="1"/>
              <p:nvPr/>
            </p:nvSpPr>
            <p:spPr>
              <a:xfrm>
                <a:off x="500040" y="4842000"/>
                <a:ext cx="74916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8" name=""/>
              <p:cNvSpPr txBox="1"/>
              <p:nvPr/>
            </p:nvSpPr>
            <p:spPr>
              <a:xfrm>
                <a:off x="6130800" y="3522600"/>
                <a:ext cx="1735200" cy="25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r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s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MRR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r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s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różnicowy na tranzystorach bipolar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flipV="1">
            <a:off x="5072040" y="1685520"/>
            <a:ext cx="1440" cy="10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222720" y="2703600"/>
            <a:ext cx="1440" cy="49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 flipV="1">
            <a:off x="3222720" y="2703240"/>
            <a:ext cx="24588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 flipH="1">
            <a:off x="2728800" y="2949480"/>
            <a:ext cx="49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 flipV="1">
            <a:off x="3468600" y="1685520"/>
            <a:ext cx="1800" cy="10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346560" y="1932120"/>
            <a:ext cx="24588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3468600" y="1685880"/>
            <a:ext cx="3700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319720" y="2703600"/>
            <a:ext cx="1440" cy="49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flipH="1" flipV="1">
            <a:off x="5072040" y="2703240"/>
            <a:ext cx="24768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5319720" y="2949480"/>
            <a:ext cx="492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950000" y="1932120"/>
            <a:ext cx="24588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3468600" y="3936960"/>
            <a:ext cx="160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5072040" y="3227400"/>
            <a:ext cx="1440" cy="70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208400" y="3936960"/>
            <a:ext cx="1800" cy="73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086360" y="4657680"/>
            <a:ext cx="245880" cy="4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208400" y="5141880"/>
            <a:ext cx="180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4208400" y="5423040"/>
            <a:ext cx="2995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2698920" y="3535200"/>
            <a:ext cx="1440" cy="37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2575080" y="3913200"/>
            <a:ext cx="247320" cy="144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811840" y="2949480"/>
            <a:ext cx="1440" cy="12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866960" y="4183200"/>
            <a:ext cx="3944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927080" y="2949480"/>
            <a:ext cx="80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3657960" y="2816280"/>
            <a:ext cx="235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'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644360" y="2816280"/>
            <a:ext cx="291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''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4586040" y="4456080"/>
            <a:ext cx="3117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3029040" y="2239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2912760" y="19591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494680" y="2239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379840" y="19591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1881360" y="2909880"/>
            <a:ext cx="6984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5040360" y="165420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178160" y="3905280"/>
            <a:ext cx="69840" cy="698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4131000" y="3530520"/>
            <a:ext cx="160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flipH="1">
            <a:off x="1881360" y="3535200"/>
            <a:ext cx="801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843200" y="3503520"/>
            <a:ext cx="698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1835280" y="4151160"/>
            <a:ext cx="698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7137360" y="1654200"/>
            <a:ext cx="6984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7165800" y="5376960"/>
            <a:ext cx="7020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3468600" y="2549520"/>
            <a:ext cx="493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4578480" y="2549520"/>
            <a:ext cx="493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4548240" y="2517840"/>
            <a:ext cx="6984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930480" y="2517840"/>
            <a:ext cx="7164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2" name=""/>
              <p:cNvSpPr txBox="1"/>
              <p:nvPr/>
            </p:nvSpPr>
            <p:spPr>
              <a:xfrm>
                <a:off x="785880" y="2879640"/>
                <a:ext cx="70632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3" name=""/>
              <p:cNvSpPr txBox="1"/>
              <p:nvPr/>
            </p:nvSpPr>
            <p:spPr>
              <a:xfrm>
                <a:off x="820800" y="3567240"/>
                <a:ext cx="70632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4" name=""/>
          <p:cNvSpPr/>
          <p:nvPr/>
        </p:nvSpPr>
        <p:spPr>
          <a:xfrm flipV="1">
            <a:off x="1870200" y="3686040"/>
            <a:ext cx="0" cy="387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 flipV="1">
            <a:off x="1863720" y="3044880"/>
            <a:ext cx="0" cy="387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3884760" y="196992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 flipH="1">
            <a:off x="4074840" y="2557440"/>
            <a:ext cx="35244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8" name=""/>
          <p:cNvGrpSpPr/>
          <p:nvPr/>
        </p:nvGrpSpPr>
        <p:grpSpPr>
          <a:xfrm>
            <a:off x="6902280" y="4130640"/>
            <a:ext cx="609480" cy="609480"/>
            <a:chOff x="6902280" y="4130640"/>
            <a:chExt cx="609480" cy="609480"/>
          </a:xfrm>
        </p:grpSpPr>
        <p:sp>
          <p:nvSpPr>
            <p:cNvPr id="1179" name=""/>
            <p:cNvSpPr/>
            <p:nvPr/>
          </p:nvSpPr>
          <p:spPr>
            <a:xfrm>
              <a:off x="6902280" y="413064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V="1">
              <a:off x="7207200" y="428256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1" name=""/>
          <p:cNvGrpSpPr/>
          <p:nvPr/>
        </p:nvGrpSpPr>
        <p:grpSpPr>
          <a:xfrm>
            <a:off x="6888240" y="2014560"/>
            <a:ext cx="609480" cy="609480"/>
            <a:chOff x="6888240" y="2014560"/>
            <a:chExt cx="609480" cy="609480"/>
          </a:xfrm>
        </p:grpSpPr>
        <p:sp>
          <p:nvSpPr>
            <p:cNvPr id="1182" name=""/>
            <p:cNvSpPr/>
            <p:nvPr/>
          </p:nvSpPr>
          <p:spPr>
            <a:xfrm>
              <a:off x="6888240" y="201456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V="1">
              <a:off x="7193160" y="21664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4" name=""/>
          <p:cNvSpPr/>
          <p:nvPr/>
        </p:nvSpPr>
        <p:spPr>
          <a:xfrm>
            <a:off x="7197840" y="2627280"/>
            <a:ext cx="0" cy="149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7180200" y="1709640"/>
            <a:ext cx="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7655760" y="1969920"/>
            <a:ext cx="63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7699680" y="4821120"/>
            <a:ext cx="61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 flipV="1">
            <a:off x="3475080" y="3192120"/>
            <a:ext cx="0" cy="74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219480" y="2952720"/>
            <a:ext cx="257040" cy="25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flipH="1">
            <a:off x="5067000" y="2952720"/>
            <a:ext cx="237960" cy="27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3435480" y="251784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5025960" y="2546280"/>
            <a:ext cx="716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7210440" y="4743360"/>
            <a:ext cx="0" cy="65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4" name=""/>
          <p:cNvGrpSpPr/>
          <p:nvPr/>
        </p:nvGrpSpPr>
        <p:grpSpPr>
          <a:xfrm>
            <a:off x="7223040" y="3459240"/>
            <a:ext cx="379440" cy="247680"/>
            <a:chOff x="7223040" y="3459240"/>
            <a:chExt cx="379440" cy="247680"/>
          </a:xfrm>
        </p:grpSpPr>
        <p:sp>
          <p:nvSpPr>
            <p:cNvPr id="1195" name=""/>
            <p:cNvSpPr/>
            <p:nvPr/>
          </p:nvSpPr>
          <p:spPr>
            <a:xfrm flipV="1">
              <a:off x="7223040" y="3581640"/>
              <a:ext cx="369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 flipV="1">
              <a:off x="7600680" y="3459240"/>
              <a:ext cx="1800" cy="24768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7" name=""/>
          <p:cNvSpPr/>
          <p:nvPr/>
        </p:nvSpPr>
        <p:spPr>
          <a:xfrm>
            <a:off x="7159680" y="353700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różnicowy na tranzystorach bipolar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 flipV="1">
            <a:off x="5072040" y="1685520"/>
            <a:ext cx="1440" cy="10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222720" y="2703600"/>
            <a:ext cx="1440" cy="49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 flipV="1">
            <a:off x="3222720" y="2703240"/>
            <a:ext cx="24588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 flipH="1">
            <a:off x="2728800" y="2949480"/>
            <a:ext cx="49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flipV="1">
            <a:off x="3468600" y="1685520"/>
            <a:ext cx="1800" cy="10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3346560" y="1932120"/>
            <a:ext cx="24588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468600" y="1685880"/>
            <a:ext cx="3700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5319720" y="2703600"/>
            <a:ext cx="1440" cy="49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 flipH="1" flipV="1">
            <a:off x="5072040" y="2703240"/>
            <a:ext cx="24768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5319720" y="2949480"/>
            <a:ext cx="492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4950000" y="1932120"/>
            <a:ext cx="24588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468600" y="3936960"/>
            <a:ext cx="160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5072040" y="3227400"/>
            <a:ext cx="1440" cy="70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245120" y="5423040"/>
            <a:ext cx="2995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2698920" y="3535200"/>
            <a:ext cx="1440" cy="37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2575080" y="3913200"/>
            <a:ext cx="247320" cy="144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5811840" y="2949480"/>
            <a:ext cx="1440" cy="12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1866960" y="4183200"/>
            <a:ext cx="3944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927080" y="2949480"/>
            <a:ext cx="80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657960" y="2816280"/>
            <a:ext cx="235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'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644360" y="2816280"/>
            <a:ext cx="291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''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3029040" y="2239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2912760" y="19591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5494680" y="2239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5379840" y="19591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1881360" y="2909880"/>
            <a:ext cx="6984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5040360" y="165420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4178160" y="3905280"/>
            <a:ext cx="69840" cy="698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131000" y="3530520"/>
            <a:ext cx="160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 flipH="1">
            <a:off x="1881360" y="3535200"/>
            <a:ext cx="801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1843200" y="3503520"/>
            <a:ext cx="698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1835280" y="4151160"/>
            <a:ext cx="698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7137360" y="1654200"/>
            <a:ext cx="6984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7165800" y="5376960"/>
            <a:ext cx="7020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3468600" y="2549520"/>
            <a:ext cx="493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4578480" y="2549520"/>
            <a:ext cx="493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4548240" y="2517840"/>
            <a:ext cx="6984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3930480" y="2517840"/>
            <a:ext cx="7164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7" name=""/>
              <p:cNvSpPr txBox="1"/>
              <p:nvPr/>
            </p:nvSpPr>
            <p:spPr>
              <a:xfrm>
                <a:off x="785880" y="2879640"/>
                <a:ext cx="70632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8" name=""/>
              <p:cNvSpPr txBox="1"/>
              <p:nvPr/>
            </p:nvSpPr>
            <p:spPr>
              <a:xfrm>
                <a:off x="820800" y="3567240"/>
                <a:ext cx="70632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39" name=""/>
          <p:cNvSpPr/>
          <p:nvPr/>
        </p:nvSpPr>
        <p:spPr>
          <a:xfrm flipV="1">
            <a:off x="1870200" y="3686040"/>
            <a:ext cx="0" cy="387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flipV="1">
            <a:off x="1863720" y="3044880"/>
            <a:ext cx="0" cy="387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3884760" y="196992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 flipH="1">
            <a:off x="4074840" y="2557440"/>
            <a:ext cx="35244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3" name=""/>
          <p:cNvGrpSpPr/>
          <p:nvPr/>
        </p:nvGrpSpPr>
        <p:grpSpPr>
          <a:xfrm>
            <a:off x="6902280" y="4130640"/>
            <a:ext cx="609480" cy="609480"/>
            <a:chOff x="6902280" y="4130640"/>
            <a:chExt cx="609480" cy="609480"/>
          </a:xfrm>
        </p:grpSpPr>
        <p:sp>
          <p:nvSpPr>
            <p:cNvPr id="1244" name=""/>
            <p:cNvSpPr/>
            <p:nvPr/>
          </p:nvSpPr>
          <p:spPr>
            <a:xfrm>
              <a:off x="6902280" y="413064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V="1">
              <a:off x="7207200" y="428256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6" name=""/>
          <p:cNvGrpSpPr/>
          <p:nvPr/>
        </p:nvGrpSpPr>
        <p:grpSpPr>
          <a:xfrm>
            <a:off x="6888240" y="2014560"/>
            <a:ext cx="609480" cy="609480"/>
            <a:chOff x="6888240" y="2014560"/>
            <a:chExt cx="609480" cy="609480"/>
          </a:xfrm>
        </p:grpSpPr>
        <p:sp>
          <p:nvSpPr>
            <p:cNvPr id="1247" name=""/>
            <p:cNvSpPr/>
            <p:nvPr/>
          </p:nvSpPr>
          <p:spPr>
            <a:xfrm>
              <a:off x="6888240" y="201456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 flipV="1">
              <a:off x="7193160" y="21664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9" name=""/>
          <p:cNvSpPr/>
          <p:nvPr/>
        </p:nvSpPr>
        <p:spPr>
          <a:xfrm>
            <a:off x="7197840" y="2627280"/>
            <a:ext cx="0" cy="149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7180200" y="1709640"/>
            <a:ext cx="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7655760" y="1969920"/>
            <a:ext cx="63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7699680" y="4821120"/>
            <a:ext cx="61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 flipV="1">
            <a:off x="3475080" y="3192120"/>
            <a:ext cx="0" cy="74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219480" y="2952720"/>
            <a:ext cx="257040" cy="25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H="1">
            <a:off x="5067000" y="2952720"/>
            <a:ext cx="237960" cy="27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435480" y="251784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5025960" y="2546280"/>
            <a:ext cx="716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7210440" y="4743360"/>
            <a:ext cx="0" cy="65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9" name=""/>
          <p:cNvGrpSpPr/>
          <p:nvPr/>
        </p:nvGrpSpPr>
        <p:grpSpPr>
          <a:xfrm>
            <a:off x="7223040" y="3459240"/>
            <a:ext cx="379440" cy="247680"/>
            <a:chOff x="7223040" y="3459240"/>
            <a:chExt cx="379440" cy="247680"/>
          </a:xfrm>
        </p:grpSpPr>
        <p:sp>
          <p:nvSpPr>
            <p:cNvPr id="1260" name=""/>
            <p:cNvSpPr/>
            <p:nvPr/>
          </p:nvSpPr>
          <p:spPr>
            <a:xfrm flipV="1">
              <a:off x="7223040" y="3581640"/>
              <a:ext cx="369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 flipV="1">
              <a:off x="7600680" y="3459240"/>
              <a:ext cx="1800" cy="24768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2" name=""/>
          <p:cNvSpPr/>
          <p:nvPr/>
        </p:nvSpPr>
        <p:spPr>
          <a:xfrm>
            <a:off x="7159680" y="353700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3" name=""/>
          <p:cNvGrpSpPr/>
          <p:nvPr/>
        </p:nvGrpSpPr>
        <p:grpSpPr>
          <a:xfrm>
            <a:off x="3962520" y="4400640"/>
            <a:ext cx="493560" cy="740880"/>
            <a:chOff x="3962520" y="4400640"/>
            <a:chExt cx="493560" cy="740880"/>
          </a:xfrm>
        </p:grpSpPr>
        <p:sp>
          <p:nvSpPr>
            <p:cNvPr id="1264" name=""/>
            <p:cNvSpPr/>
            <p:nvPr/>
          </p:nvSpPr>
          <p:spPr>
            <a:xfrm flipV="1">
              <a:off x="3962520" y="4647600"/>
              <a:ext cx="493560" cy="4939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209120" y="4524480"/>
              <a:ext cx="0" cy="494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V="1">
              <a:off x="3962520" y="4400640"/>
              <a:ext cx="493560" cy="4939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7" name=""/>
          <p:cNvSpPr/>
          <p:nvPr/>
        </p:nvSpPr>
        <p:spPr>
          <a:xfrm>
            <a:off x="4216320" y="395136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4233960" y="516744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4560480" y="4527720"/>
            <a:ext cx="420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ź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452400" y="463392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różnicowy z obciążeniem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V="1">
            <a:off x="5072040" y="1685520"/>
            <a:ext cx="1440" cy="10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222720" y="2703600"/>
            <a:ext cx="1440" cy="49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V="1">
            <a:off x="3222720" y="2703240"/>
            <a:ext cx="24588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 flipH="1">
            <a:off x="2728800" y="2949480"/>
            <a:ext cx="49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 flipV="1">
            <a:off x="3468600" y="1685520"/>
            <a:ext cx="1800" cy="10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346560" y="1932120"/>
            <a:ext cx="24588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468600" y="1685880"/>
            <a:ext cx="3700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5319720" y="2703600"/>
            <a:ext cx="1440" cy="49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 flipH="1" flipV="1">
            <a:off x="5072040" y="2703240"/>
            <a:ext cx="24768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5319720" y="2949480"/>
            <a:ext cx="492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4950000" y="1932120"/>
            <a:ext cx="24588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3468600" y="3936960"/>
            <a:ext cx="160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5072040" y="3227400"/>
            <a:ext cx="1440" cy="70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208400" y="3936960"/>
            <a:ext cx="1800" cy="73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4086360" y="4657680"/>
            <a:ext cx="245880" cy="4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208400" y="5141880"/>
            <a:ext cx="180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208400" y="5423040"/>
            <a:ext cx="2995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2698920" y="3535200"/>
            <a:ext cx="1440" cy="37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2575080" y="3913200"/>
            <a:ext cx="247320" cy="144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5811840" y="2949480"/>
            <a:ext cx="1440" cy="12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1866960" y="4183200"/>
            <a:ext cx="3944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1927080" y="2949480"/>
            <a:ext cx="80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657960" y="2816280"/>
            <a:ext cx="235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'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4644360" y="2816280"/>
            <a:ext cx="291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''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3029040" y="2239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2912760" y="19591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5494680" y="2239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5379840" y="19591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1881360" y="2909880"/>
            <a:ext cx="6984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5040360" y="165420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4178160" y="3905280"/>
            <a:ext cx="69840" cy="698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4131000" y="3530520"/>
            <a:ext cx="160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 flipH="1">
            <a:off x="1881360" y="3535200"/>
            <a:ext cx="801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1843200" y="3503520"/>
            <a:ext cx="698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1835280" y="4151160"/>
            <a:ext cx="698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7137360" y="1654200"/>
            <a:ext cx="6984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7165800" y="5376960"/>
            <a:ext cx="7020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3468600" y="2549520"/>
            <a:ext cx="493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4454640" y="2549520"/>
            <a:ext cx="617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1" name=""/>
              <p:cNvSpPr txBox="1"/>
              <p:nvPr/>
            </p:nvSpPr>
            <p:spPr>
              <a:xfrm>
                <a:off x="785880" y="2879640"/>
                <a:ext cx="70632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2" name=""/>
              <p:cNvSpPr txBox="1"/>
              <p:nvPr/>
            </p:nvSpPr>
            <p:spPr>
              <a:xfrm>
                <a:off x="820800" y="3567240"/>
                <a:ext cx="70632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13" name=""/>
          <p:cNvSpPr/>
          <p:nvPr/>
        </p:nvSpPr>
        <p:spPr>
          <a:xfrm flipV="1">
            <a:off x="1870200" y="3686040"/>
            <a:ext cx="0" cy="387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flipV="1">
            <a:off x="1863720" y="3044880"/>
            <a:ext cx="0" cy="387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994560" y="285120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H="1">
            <a:off x="4020840" y="2822400"/>
            <a:ext cx="35244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7" name=""/>
          <p:cNvGrpSpPr/>
          <p:nvPr/>
        </p:nvGrpSpPr>
        <p:grpSpPr>
          <a:xfrm>
            <a:off x="6902280" y="4130640"/>
            <a:ext cx="609480" cy="609480"/>
            <a:chOff x="6902280" y="4130640"/>
            <a:chExt cx="609480" cy="609480"/>
          </a:xfrm>
        </p:grpSpPr>
        <p:sp>
          <p:nvSpPr>
            <p:cNvPr id="1318" name=""/>
            <p:cNvSpPr/>
            <p:nvPr/>
          </p:nvSpPr>
          <p:spPr>
            <a:xfrm>
              <a:off x="6902280" y="413064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 flipV="1">
              <a:off x="7207200" y="428256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0" name=""/>
          <p:cNvGrpSpPr/>
          <p:nvPr/>
        </p:nvGrpSpPr>
        <p:grpSpPr>
          <a:xfrm>
            <a:off x="6888240" y="2014560"/>
            <a:ext cx="609480" cy="609480"/>
            <a:chOff x="6888240" y="2014560"/>
            <a:chExt cx="609480" cy="609480"/>
          </a:xfrm>
        </p:grpSpPr>
        <p:sp>
          <p:nvSpPr>
            <p:cNvPr id="1321" name=""/>
            <p:cNvSpPr/>
            <p:nvPr/>
          </p:nvSpPr>
          <p:spPr>
            <a:xfrm>
              <a:off x="6888240" y="201456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 flipV="1">
              <a:off x="7193160" y="21664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3" name=""/>
          <p:cNvSpPr/>
          <p:nvPr/>
        </p:nvSpPr>
        <p:spPr>
          <a:xfrm>
            <a:off x="7197840" y="2627280"/>
            <a:ext cx="0" cy="149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7180200" y="1709640"/>
            <a:ext cx="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7655760" y="1969920"/>
            <a:ext cx="63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7699680" y="4821120"/>
            <a:ext cx="61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 flipV="1">
            <a:off x="3475080" y="3192120"/>
            <a:ext cx="0" cy="74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219480" y="2952720"/>
            <a:ext cx="257040" cy="25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 flipH="1">
            <a:off x="5067000" y="2952720"/>
            <a:ext cx="237960" cy="27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3435480" y="251784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025960" y="2546280"/>
            <a:ext cx="716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7210440" y="4743360"/>
            <a:ext cx="0" cy="65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3" name=""/>
          <p:cNvGrpSpPr/>
          <p:nvPr/>
        </p:nvGrpSpPr>
        <p:grpSpPr>
          <a:xfrm>
            <a:off x="7223040" y="3459240"/>
            <a:ext cx="379440" cy="247680"/>
            <a:chOff x="7223040" y="3459240"/>
            <a:chExt cx="379440" cy="247680"/>
          </a:xfrm>
        </p:grpSpPr>
        <p:sp>
          <p:nvSpPr>
            <p:cNvPr id="1334" name=""/>
            <p:cNvSpPr/>
            <p:nvPr/>
          </p:nvSpPr>
          <p:spPr>
            <a:xfrm flipV="1">
              <a:off x="7223040" y="3581640"/>
              <a:ext cx="369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 flipV="1">
              <a:off x="7600680" y="3459240"/>
              <a:ext cx="1800" cy="24768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6" name=""/>
          <p:cNvSpPr/>
          <p:nvPr/>
        </p:nvSpPr>
        <p:spPr>
          <a:xfrm>
            <a:off x="7159680" y="353700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rot="16200000">
            <a:off x="4114800" y="2331720"/>
            <a:ext cx="24588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4046760" y="198900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475080" y="3368520"/>
            <a:ext cx="0" cy="44136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5073480" y="3398760"/>
            <a:ext cx="0" cy="44136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2937240" y="3541680"/>
            <a:ext cx="424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I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Times New Roman"/>
              </a:rPr>
              <a:t>E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5277240" y="3537000"/>
            <a:ext cx="424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I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Times New Roman"/>
              </a:rPr>
              <a:t>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4568400" y="4564080"/>
            <a:ext cx="88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ź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proszczony małosygnałowy model wzmacniacza różnic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 flipV="1">
            <a:off x="5227560" y="2060640"/>
            <a:ext cx="3240" cy="244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 flipV="1">
            <a:off x="3613320" y="2060640"/>
            <a:ext cx="1440" cy="244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1909800" y="3381480"/>
            <a:ext cx="107784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987640" y="3381480"/>
            <a:ext cx="1800" cy="112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2987640" y="4503600"/>
            <a:ext cx="2867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 flipV="1">
            <a:off x="5854680" y="3381120"/>
            <a:ext cx="3240" cy="112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5854680" y="3381480"/>
            <a:ext cx="98748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2" name=""/>
          <p:cNvGrpSpPr/>
          <p:nvPr/>
        </p:nvGrpSpPr>
        <p:grpSpPr>
          <a:xfrm>
            <a:off x="5046840" y="3586320"/>
            <a:ext cx="361440" cy="612000"/>
            <a:chOff x="5046840" y="3586320"/>
            <a:chExt cx="361440" cy="612000"/>
          </a:xfrm>
        </p:grpSpPr>
        <p:sp>
          <p:nvSpPr>
            <p:cNvPr id="1353" name=""/>
            <p:cNvSpPr/>
            <p:nvPr/>
          </p:nvSpPr>
          <p:spPr>
            <a:xfrm>
              <a:off x="5046840" y="3586320"/>
              <a:ext cx="361440" cy="407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046840" y="3787920"/>
              <a:ext cx="361440" cy="4104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046840" y="3586320"/>
              <a:ext cx="361440" cy="407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6" name=""/>
          <p:cNvGrpSpPr/>
          <p:nvPr/>
        </p:nvGrpSpPr>
        <p:grpSpPr>
          <a:xfrm>
            <a:off x="3430440" y="3586320"/>
            <a:ext cx="363240" cy="612000"/>
            <a:chOff x="3430440" y="3586320"/>
            <a:chExt cx="363240" cy="612000"/>
          </a:xfrm>
        </p:grpSpPr>
        <p:sp>
          <p:nvSpPr>
            <p:cNvPr id="1357" name=""/>
            <p:cNvSpPr/>
            <p:nvPr/>
          </p:nvSpPr>
          <p:spPr>
            <a:xfrm>
              <a:off x="3430440" y="3586320"/>
              <a:ext cx="363240" cy="407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3430440" y="3787920"/>
              <a:ext cx="363240" cy="4104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430440" y="3586320"/>
              <a:ext cx="363240" cy="407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0" name=""/>
          <p:cNvSpPr/>
          <p:nvPr/>
        </p:nvSpPr>
        <p:spPr>
          <a:xfrm>
            <a:off x="3522600" y="2260440"/>
            <a:ext cx="181080" cy="41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5137200" y="2260440"/>
            <a:ext cx="181080" cy="41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3525840" y="2060640"/>
            <a:ext cx="177840" cy="14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5137200" y="2060640"/>
            <a:ext cx="179280" cy="14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268360" y="3279600"/>
            <a:ext cx="360720" cy="206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2894040" y="3686040"/>
            <a:ext cx="183960" cy="41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5765760" y="3686040"/>
            <a:ext cx="179280" cy="41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4419720" y="4503600"/>
            <a:ext cx="1440" cy="101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332240" y="5522760"/>
            <a:ext cx="179280" cy="180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4329000" y="4910040"/>
            <a:ext cx="182520" cy="409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3570120" y="4454640"/>
            <a:ext cx="87480" cy="997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5181480" y="4454640"/>
            <a:ext cx="92160" cy="997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375080" y="4454640"/>
            <a:ext cx="92160" cy="997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5181480" y="2924280"/>
            <a:ext cx="92160" cy="1015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3570120" y="2924280"/>
            <a:ext cx="87480" cy="1015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1865160" y="3332160"/>
            <a:ext cx="88920" cy="1000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6797520" y="3332160"/>
            <a:ext cx="87480" cy="1000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1822320" y="4707000"/>
            <a:ext cx="17964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751800" y="4707000"/>
            <a:ext cx="17748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9" name=""/>
          <p:cNvGrpSpPr/>
          <p:nvPr/>
        </p:nvGrpSpPr>
        <p:grpSpPr>
          <a:xfrm>
            <a:off x="2627280" y="3687840"/>
            <a:ext cx="178560" cy="510840"/>
            <a:chOff x="2627280" y="3687840"/>
            <a:chExt cx="178560" cy="510840"/>
          </a:xfrm>
        </p:grpSpPr>
        <p:sp>
          <p:nvSpPr>
            <p:cNvPr id="1380" name=""/>
            <p:cNvSpPr/>
            <p:nvPr/>
          </p:nvSpPr>
          <p:spPr>
            <a:xfrm>
              <a:off x="2716560" y="3687840"/>
              <a:ext cx="1440" cy="51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 flipH="1">
              <a:off x="2627280" y="3687840"/>
              <a:ext cx="89280" cy="10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716560" y="3687840"/>
              <a:ext cx="89280" cy="10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3" name=""/>
          <p:cNvSpPr/>
          <p:nvPr/>
        </p:nvSpPr>
        <p:spPr>
          <a:xfrm>
            <a:off x="6122880" y="3687840"/>
            <a:ext cx="1800" cy="511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 flipH="1">
            <a:off x="6035760" y="3687840"/>
            <a:ext cx="87120" cy="10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6122880" y="3687840"/>
            <a:ext cx="92160" cy="10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6" name=""/>
          <p:cNvGrpSpPr/>
          <p:nvPr/>
        </p:nvGrpSpPr>
        <p:grpSpPr>
          <a:xfrm>
            <a:off x="3255480" y="2262240"/>
            <a:ext cx="177480" cy="509040"/>
            <a:chOff x="3255480" y="2262240"/>
            <a:chExt cx="177480" cy="509040"/>
          </a:xfrm>
        </p:grpSpPr>
        <p:sp>
          <p:nvSpPr>
            <p:cNvPr id="1387" name=""/>
            <p:cNvSpPr/>
            <p:nvPr/>
          </p:nvSpPr>
          <p:spPr>
            <a:xfrm flipV="1">
              <a:off x="3345480" y="2262240"/>
              <a:ext cx="1440" cy="509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 flipH="1" flipV="1">
              <a:off x="3255480" y="2671200"/>
              <a:ext cx="89640" cy="9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 flipV="1">
              <a:off x="3345480" y="2671200"/>
              <a:ext cx="87480" cy="9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0" name=""/>
          <p:cNvGrpSpPr/>
          <p:nvPr/>
        </p:nvGrpSpPr>
        <p:grpSpPr>
          <a:xfrm>
            <a:off x="5405400" y="2262240"/>
            <a:ext cx="180720" cy="509040"/>
            <a:chOff x="5405400" y="2262240"/>
            <a:chExt cx="180720" cy="509040"/>
          </a:xfrm>
        </p:grpSpPr>
        <p:sp>
          <p:nvSpPr>
            <p:cNvPr id="1391" name=""/>
            <p:cNvSpPr/>
            <p:nvPr/>
          </p:nvSpPr>
          <p:spPr>
            <a:xfrm flipV="1">
              <a:off x="5497560" y="2262240"/>
              <a:ext cx="2160" cy="509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 flipH="1" flipV="1">
              <a:off x="5405400" y="2671200"/>
              <a:ext cx="92160" cy="9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 flipV="1">
              <a:off x="5497560" y="2671200"/>
              <a:ext cx="88560" cy="9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4" name=""/>
          <p:cNvSpPr/>
          <p:nvPr/>
        </p:nvSpPr>
        <p:spPr>
          <a:xfrm>
            <a:off x="3791880" y="22604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3971160" y="242712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4777560" y="22604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4955400" y="242712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6230160" y="3787920"/>
            <a:ext cx="3175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b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2385000" y="3787920"/>
            <a:ext cx="3175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b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951240" y="3992400"/>
            <a:ext cx="38916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W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1455480" y="3973680"/>
            <a:ext cx="38916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W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4286520" y="2470320"/>
            <a:ext cx="2185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ff3300"/>
                </a:solidFill>
                <a:latin typeface="Times New Roman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5699880" y="2260440"/>
            <a:ext cx="40284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WY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2918520" y="2360520"/>
            <a:ext cx="40284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WY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3833640" y="4097160"/>
            <a:ext cx="6955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m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be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4368960" y="3373560"/>
            <a:ext cx="6951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m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b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 flipH="1">
            <a:off x="3848040" y="2809800"/>
            <a:ext cx="11145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 rot="16200000">
            <a:off x="4264560" y="2775240"/>
            <a:ext cx="181080" cy="411120"/>
          </a:xfrm>
          <a:prstGeom prst="rect">
            <a:avLst/>
          </a:prstGeom>
          <a:solidFill>
            <a:srgbClr val="ffffff"/>
          </a:solidFill>
          <a:ln w="270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3610080" y="298116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 flipH="1">
            <a:off x="4552560" y="2971800"/>
            <a:ext cx="67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 flipV="1">
            <a:off x="1905120" y="3610080"/>
            <a:ext cx="0" cy="10000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 flipV="1">
            <a:off x="6838920" y="3552480"/>
            <a:ext cx="0" cy="10098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4154760" y="2019240"/>
            <a:ext cx="41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2105280" y="2795760"/>
            <a:ext cx="538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b’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5784120" y="2914560"/>
            <a:ext cx="502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bb’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2222640" y="4114800"/>
            <a:ext cx="608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’e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5985000" y="4238640"/>
            <a:ext cx="608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’e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3610080" y="369576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5248440" y="374328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1689480" y="5800680"/>
            <a:ext cx="644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ak pojemności w modelach tranzystorów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kres małych i średnich częstotliw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4717800" y="5052960"/>
            <a:ext cx="1094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lub 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ź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2038320" y="3381480"/>
            <a:ext cx="1429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1249560" y="3257640"/>
            <a:ext cx="462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Times New Roman"/>
              </a:rPr>
              <a:t>W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akromodel wzmacniacza różnic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4632480" y="3432240"/>
            <a:ext cx="1330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6" name=""/>
          <p:cNvGrpSpPr/>
          <p:nvPr/>
        </p:nvGrpSpPr>
        <p:grpSpPr>
          <a:xfrm>
            <a:off x="4938840" y="3219480"/>
            <a:ext cx="411120" cy="487800"/>
            <a:chOff x="4938840" y="3219480"/>
            <a:chExt cx="411120" cy="487800"/>
          </a:xfrm>
        </p:grpSpPr>
        <p:sp>
          <p:nvSpPr>
            <p:cNvPr id="1427" name=""/>
            <p:cNvSpPr/>
            <p:nvPr/>
          </p:nvSpPr>
          <p:spPr>
            <a:xfrm>
              <a:off x="4938840" y="3227400"/>
              <a:ext cx="411120" cy="4111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111640" y="3219480"/>
              <a:ext cx="238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9" name=""/>
          <p:cNvSpPr/>
          <p:nvPr/>
        </p:nvSpPr>
        <p:spPr>
          <a:xfrm>
            <a:off x="4632480" y="3330720"/>
            <a:ext cx="1440" cy="20448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0" name=""/>
          <p:cNvGrpSpPr/>
          <p:nvPr/>
        </p:nvGrpSpPr>
        <p:grpSpPr>
          <a:xfrm>
            <a:off x="4888080" y="3687840"/>
            <a:ext cx="512640" cy="204840"/>
            <a:chOff x="4888080" y="3687840"/>
            <a:chExt cx="512640" cy="204840"/>
          </a:xfrm>
        </p:grpSpPr>
        <p:sp>
          <p:nvSpPr>
            <p:cNvPr id="1431" name=""/>
            <p:cNvSpPr/>
            <p:nvPr/>
          </p:nvSpPr>
          <p:spPr>
            <a:xfrm>
              <a:off x="4888080" y="3790800"/>
              <a:ext cx="512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H="1" flipV="1">
              <a:off x="5297040" y="3687840"/>
              <a:ext cx="103320" cy="10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 flipH="1">
              <a:off x="5297040" y="3790800"/>
              <a:ext cx="103320" cy="10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4" name=""/>
          <p:cNvSpPr/>
          <p:nvPr/>
        </p:nvSpPr>
        <p:spPr>
          <a:xfrm>
            <a:off x="5911920" y="3381480"/>
            <a:ext cx="102960" cy="1015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 flipV="1">
            <a:off x="5962680" y="2612520"/>
            <a:ext cx="1440" cy="16383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5962680" y="4251240"/>
            <a:ext cx="12301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5962680" y="2612880"/>
            <a:ext cx="12301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8" name=""/>
          <p:cNvGrpSpPr/>
          <p:nvPr/>
        </p:nvGrpSpPr>
        <p:grpSpPr>
          <a:xfrm>
            <a:off x="5757840" y="2809800"/>
            <a:ext cx="411120" cy="419040"/>
            <a:chOff x="5757840" y="2809800"/>
            <a:chExt cx="411120" cy="419040"/>
          </a:xfrm>
        </p:grpSpPr>
        <p:sp>
          <p:nvSpPr>
            <p:cNvPr id="1439" name=""/>
            <p:cNvSpPr/>
            <p:nvPr/>
          </p:nvSpPr>
          <p:spPr>
            <a:xfrm>
              <a:off x="5757840" y="2817720"/>
              <a:ext cx="411120" cy="4111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835600" y="2809800"/>
              <a:ext cx="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1" name=""/>
          <p:cNvGrpSpPr/>
          <p:nvPr/>
        </p:nvGrpSpPr>
        <p:grpSpPr>
          <a:xfrm>
            <a:off x="5757840" y="3629160"/>
            <a:ext cx="411120" cy="419040"/>
            <a:chOff x="5757840" y="3629160"/>
            <a:chExt cx="411120" cy="419040"/>
          </a:xfrm>
        </p:grpSpPr>
        <p:sp>
          <p:nvSpPr>
            <p:cNvPr id="1442" name=""/>
            <p:cNvSpPr/>
            <p:nvPr/>
          </p:nvSpPr>
          <p:spPr>
            <a:xfrm>
              <a:off x="5757840" y="3637080"/>
              <a:ext cx="411120" cy="4111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835600" y="3629160"/>
              <a:ext cx="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4" name=""/>
          <p:cNvSpPr/>
          <p:nvPr/>
        </p:nvSpPr>
        <p:spPr>
          <a:xfrm>
            <a:off x="7142040" y="4200480"/>
            <a:ext cx="101880" cy="1033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7142040" y="2562120"/>
            <a:ext cx="101880" cy="1018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6" name=""/>
          <p:cNvGrpSpPr/>
          <p:nvPr/>
        </p:nvGrpSpPr>
        <p:grpSpPr>
          <a:xfrm>
            <a:off x="6168960" y="2716200"/>
            <a:ext cx="204840" cy="511200"/>
            <a:chOff x="6168960" y="2716200"/>
            <a:chExt cx="204840" cy="511200"/>
          </a:xfrm>
        </p:grpSpPr>
        <p:sp>
          <p:nvSpPr>
            <p:cNvPr id="1447" name=""/>
            <p:cNvSpPr/>
            <p:nvPr/>
          </p:nvSpPr>
          <p:spPr>
            <a:xfrm flipV="1">
              <a:off x="6270480" y="2716200"/>
              <a:ext cx="1800" cy="511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 flipH="1">
              <a:off x="6168960" y="2716200"/>
              <a:ext cx="101520" cy="10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6270480" y="2716200"/>
              <a:ext cx="103320" cy="10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0" name=""/>
          <p:cNvGrpSpPr/>
          <p:nvPr/>
        </p:nvGrpSpPr>
        <p:grpSpPr>
          <a:xfrm>
            <a:off x="6168960" y="3535200"/>
            <a:ext cx="204840" cy="511200"/>
            <a:chOff x="6168960" y="3535200"/>
            <a:chExt cx="204840" cy="511200"/>
          </a:xfrm>
        </p:grpSpPr>
        <p:sp>
          <p:nvSpPr>
            <p:cNvPr id="1451" name=""/>
            <p:cNvSpPr/>
            <p:nvPr/>
          </p:nvSpPr>
          <p:spPr>
            <a:xfrm flipV="1">
              <a:off x="6270480" y="3535200"/>
              <a:ext cx="1800" cy="511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 flipH="1">
              <a:off x="6168960" y="3535200"/>
              <a:ext cx="101520" cy="10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6270480" y="3535200"/>
              <a:ext cx="103320" cy="10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4" name=""/>
          <p:cNvSpPr/>
          <p:nvPr/>
        </p:nvSpPr>
        <p:spPr>
          <a:xfrm>
            <a:off x="7259040" y="2249640"/>
            <a:ext cx="44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Y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7187760" y="4381560"/>
            <a:ext cx="44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Y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6" name=""/>
          <p:cNvGrpSpPr/>
          <p:nvPr/>
        </p:nvGrpSpPr>
        <p:grpSpPr>
          <a:xfrm>
            <a:off x="1353960" y="2562120"/>
            <a:ext cx="2613240" cy="1741680"/>
            <a:chOff x="1353960" y="2562120"/>
            <a:chExt cx="2613240" cy="1741680"/>
          </a:xfrm>
        </p:grpSpPr>
        <p:sp>
          <p:nvSpPr>
            <p:cNvPr id="1457" name=""/>
            <p:cNvSpPr/>
            <p:nvPr/>
          </p:nvSpPr>
          <p:spPr>
            <a:xfrm flipH="1">
              <a:off x="2633400" y="3432240"/>
              <a:ext cx="13316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3965400" y="3330720"/>
              <a:ext cx="1800" cy="204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2583000" y="3381480"/>
              <a:ext cx="102960" cy="1015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 flipV="1">
              <a:off x="2633760" y="2612520"/>
              <a:ext cx="1440" cy="163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 flipH="1">
              <a:off x="1404720" y="4251240"/>
              <a:ext cx="12286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H="1">
              <a:off x="1404720" y="2612880"/>
              <a:ext cx="12286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1353960" y="4200480"/>
              <a:ext cx="101880" cy="1033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1353960" y="2562120"/>
              <a:ext cx="101880" cy="1018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5" name=""/>
          <p:cNvSpPr/>
          <p:nvPr/>
        </p:nvSpPr>
        <p:spPr>
          <a:xfrm>
            <a:off x="3094200" y="3328920"/>
            <a:ext cx="514080" cy="20628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1762200" y="2509920"/>
            <a:ext cx="514440" cy="20628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1762200" y="4148280"/>
            <a:ext cx="514440" cy="20628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907920" y="2532240"/>
            <a:ext cx="44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907920" y="4170240"/>
            <a:ext cx="44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4359600" y="4051440"/>
            <a:ext cx="1159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1" name=""/>
              <p:cNvSpPr txBox="1"/>
              <p:nvPr/>
            </p:nvSpPr>
            <p:spPr>
              <a:xfrm>
                <a:off x="6415200" y="2732040"/>
                <a:ext cx="11620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r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2" name=""/>
              <p:cNvSpPr txBox="1"/>
              <p:nvPr/>
            </p:nvSpPr>
            <p:spPr>
              <a:xfrm>
                <a:off x="6461280" y="3502080"/>
                <a:ext cx="11617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r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73" name=""/>
          <p:cNvSpPr/>
          <p:nvPr/>
        </p:nvSpPr>
        <p:spPr>
          <a:xfrm flipV="1">
            <a:off x="5962680" y="2892240"/>
            <a:ext cx="0" cy="24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 flipV="1">
            <a:off x="5938920" y="371484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5" name=""/>
              <p:cNvSpPr txBox="1"/>
              <p:nvPr/>
            </p:nvSpPr>
            <p:spPr>
              <a:xfrm>
                <a:off x="2709720" y="2711520"/>
                <a:ext cx="16290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T</m:t>
                        </m:r>
                        <m:r>
                          <m:t xml:space="preserve">1,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6" name=""/>
              <p:cNvSpPr txBox="1"/>
              <p:nvPr/>
            </p:nvSpPr>
            <p:spPr>
              <a:xfrm>
                <a:off x="1766880" y="1909800"/>
                <a:ext cx="5983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T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7" name=""/>
              <p:cNvSpPr txBox="1"/>
              <p:nvPr/>
            </p:nvSpPr>
            <p:spPr>
              <a:xfrm>
                <a:off x="1676520" y="3632040"/>
                <a:ext cx="6253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T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840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ównanie charakterystyk częstotliwośc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38360" y="2548080"/>
            <a:ext cx="1440" cy="19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5720" y="4378320"/>
            <a:ext cx="3353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360" y="3235320"/>
            <a:ext cx="2590560" cy="1143000"/>
          </a:xfrm>
          <a:custGeom>
            <a:avLst/>
            <a:gdLst/>
            <a:ahLst/>
            <a:rect l="l" t="t" r="r" b="b"/>
            <a:pathLst>
              <a:path w="1632" h="720">
                <a:moveTo>
                  <a:pt x="0" y="0"/>
                </a:moveTo>
                <a:lnTo>
                  <a:pt x="1123" y="0"/>
                </a:lnTo>
                <a:lnTo>
                  <a:pt x="1327" y="119"/>
                </a:lnTo>
                <a:lnTo>
                  <a:pt x="1479" y="299"/>
                </a:lnTo>
                <a:lnTo>
                  <a:pt x="1582" y="480"/>
                </a:lnTo>
                <a:lnTo>
                  <a:pt x="1632" y="72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662040" y="2548080"/>
            <a:ext cx="76320" cy="15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8360" y="2548080"/>
            <a:ext cx="75960" cy="15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3786120" y="4302000"/>
            <a:ext cx="152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786120" y="4378320"/>
            <a:ext cx="152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5560" y="2268360"/>
            <a:ext cx="149040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440" y="2411280"/>
            <a:ext cx="3348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8880" y="2432160"/>
            <a:ext cx="331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Ku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3440" y="3097080"/>
            <a:ext cx="1713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5720" y="3219480"/>
            <a:ext cx="16200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95760" y="3387600"/>
            <a:ext cx="1440" cy="9907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18200" y="2519280"/>
            <a:ext cx="1440" cy="198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65560" y="4349880"/>
            <a:ext cx="3353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89840" y="3435480"/>
            <a:ext cx="2211120" cy="876240"/>
          </a:xfrm>
          <a:custGeom>
            <a:avLst/>
            <a:gdLst/>
            <a:ahLst/>
            <a:rect l="l" t="t" r="r" b="b"/>
            <a:pathLst>
              <a:path w="1393" h="552">
                <a:moveTo>
                  <a:pt x="0" y="0"/>
                </a:moveTo>
                <a:lnTo>
                  <a:pt x="653" y="4"/>
                </a:lnTo>
                <a:lnTo>
                  <a:pt x="785" y="24"/>
                </a:lnTo>
                <a:lnTo>
                  <a:pt x="861" y="48"/>
                </a:lnTo>
                <a:lnTo>
                  <a:pt x="937" y="88"/>
                </a:lnTo>
                <a:lnTo>
                  <a:pt x="981" y="136"/>
                </a:lnTo>
                <a:lnTo>
                  <a:pt x="1049" y="220"/>
                </a:lnTo>
                <a:lnTo>
                  <a:pt x="1101" y="328"/>
                </a:lnTo>
                <a:lnTo>
                  <a:pt x="1181" y="448"/>
                </a:lnTo>
                <a:lnTo>
                  <a:pt x="1273" y="524"/>
                </a:lnTo>
                <a:lnTo>
                  <a:pt x="1393" y="55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5141880" y="25192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218200" y="2519280"/>
            <a:ext cx="7596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8265960" y="4273560"/>
            <a:ext cx="152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8265960" y="4349880"/>
            <a:ext cx="15264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913280" y="2382840"/>
            <a:ext cx="3351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718880" y="2386080"/>
            <a:ext cx="331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Ku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885080" y="4346640"/>
            <a:ext cx="19836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745400" y="3664080"/>
            <a:ext cx="1440" cy="685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42280" y="4118040"/>
            <a:ext cx="19836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219640" y="3440160"/>
            <a:ext cx="1149480" cy="912600"/>
          </a:xfrm>
          <a:custGeom>
            <a:avLst/>
            <a:gdLst/>
            <a:ahLst/>
            <a:rect l="l" t="t" r="r" b="b"/>
            <a:pathLst>
              <a:path w="724" h="575">
                <a:moveTo>
                  <a:pt x="724" y="0"/>
                </a:moveTo>
                <a:lnTo>
                  <a:pt x="508" y="1"/>
                </a:lnTo>
                <a:lnTo>
                  <a:pt x="396" y="49"/>
                </a:lnTo>
                <a:lnTo>
                  <a:pt x="337" y="91"/>
                </a:lnTo>
                <a:lnTo>
                  <a:pt x="260" y="165"/>
                </a:lnTo>
                <a:lnTo>
                  <a:pt x="216" y="235"/>
                </a:lnTo>
                <a:lnTo>
                  <a:pt x="156" y="395"/>
                </a:lnTo>
                <a:lnTo>
                  <a:pt x="100" y="513"/>
                </a:lnTo>
                <a:lnTo>
                  <a:pt x="60" y="549"/>
                </a:lnTo>
                <a:lnTo>
                  <a:pt x="0" y="57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218200" y="3664080"/>
            <a:ext cx="253368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04000" y="3511440"/>
            <a:ext cx="1440" cy="838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217840" y="3511440"/>
            <a:ext cx="68580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827680" y="4346640"/>
            <a:ext cx="19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84960" y="2631960"/>
            <a:ext cx="159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ądu zmienne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00000" y="2438280"/>
            <a:ext cx="12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Pradu stałe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094600" y="44067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25840" y="44067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70440" y="4478400"/>
            <a:ext cx="32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748280" y="4406760"/>
            <a:ext cx="32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612880" y="4530600"/>
            <a:ext cx="32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29120" y="4459320"/>
            <a:ext cx="781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0" lang="pl-PL" sz="2800" spc="-1" strike="noStrike" baseline="-25000">
                <a:solidFill>
                  <a:srgbClr val="ff3300"/>
                </a:solidFill>
                <a:latin typeface="Times New Roman"/>
              </a:rPr>
              <a:t>d</a:t>
            </a:r>
            <a:r>
              <a:rPr b="0" lang="pl-PL" sz="2800" spc="-1" strike="noStrike">
                <a:solidFill>
                  <a:srgbClr val="ff3300"/>
                </a:solidFill>
                <a:latin typeface="Times New Roman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6560" y="1427040"/>
            <a:ext cx="75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zmacniacz prądu stałeg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zmacniacz prądy zmienne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03080" y="5540400"/>
            <a:ext cx="7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D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659200" y="5575320"/>
            <a:ext cx="7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ry wzmacniacza różnicoweg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 obciążeniem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9" name=""/>
              <p:cNvSpPr txBox="1"/>
              <p:nvPr/>
            </p:nvSpPr>
            <p:spPr>
              <a:xfrm>
                <a:off x="1736640" y="1387440"/>
                <a:ext cx="5867640" cy="423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r</m:t>
                            </m:r>
                          </m:sub>
                        </m:sSub>
                        <m:r>
                          <m:t xml:space="preserve">≈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s</m:t>
                            </m:r>
                          </m:sub>
                        </m:sSub>
                        <m:r>
                          <m:t xml:space="preserve">≈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|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MRR</m:t>
                        </m:r>
                        <m:r>
                          <m:t xml:space="preserve">≃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r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'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'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≃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T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≃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T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80" name=""/>
          <p:cNvSpPr/>
          <p:nvPr/>
        </p:nvSpPr>
        <p:spPr>
          <a:xfrm>
            <a:off x="1275480" y="5773680"/>
            <a:ext cx="6264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8000"/>
                </a:solidFill>
                <a:latin typeface="Times New Roman"/>
              </a:rPr>
              <a:t>Dla układu ze źródłem prądowym: R</a:t>
            </a:r>
            <a:r>
              <a:rPr b="0" lang="pl-PL" sz="2800" spc="-1" strike="noStrike" baseline="-25000">
                <a:solidFill>
                  <a:srgbClr val="008000"/>
                </a:solidFill>
                <a:latin typeface="Times New Roman"/>
              </a:rPr>
              <a:t>E </a:t>
            </a:r>
            <a:r>
              <a:rPr b="0" lang="pl-PL" sz="2800" spc="-1" strike="noStrike">
                <a:solidFill>
                  <a:srgbClr val="008000"/>
                </a:solidFill>
                <a:latin typeface="Symbol"/>
                <a:ea typeface="Symbol"/>
              </a:rPr>
              <a:t></a:t>
            </a:r>
            <a:r>
              <a:rPr b="0" lang="pl-PL" sz="2800" spc="-1" strike="noStrike">
                <a:solidFill>
                  <a:srgbClr val="008000"/>
                </a:solidFill>
                <a:latin typeface="Times New Roman"/>
              </a:rPr>
              <a:t> r</a:t>
            </a:r>
            <a:r>
              <a:rPr b="0" lang="pl-PL" sz="2800" spc="-1" strike="noStrike" baseline="-25000">
                <a:solidFill>
                  <a:srgbClr val="008000"/>
                </a:solidFill>
                <a:latin typeface="Times New Roman"/>
              </a:rPr>
              <a:t>ź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stałoprądowe wzmacniacza różnic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2" name=""/>
          <p:cNvGrpSpPr/>
          <p:nvPr/>
        </p:nvGrpSpPr>
        <p:grpSpPr>
          <a:xfrm>
            <a:off x="2610000" y="1655640"/>
            <a:ext cx="5531040" cy="3249000"/>
            <a:chOff x="2610000" y="1655640"/>
            <a:chExt cx="5531040" cy="3249000"/>
          </a:xfrm>
        </p:grpSpPr>
        <p:sp>
          <p:nvSpPr>
            <p:cNvPr id="1483" name=""/>
            <p:cNvSpPr/>
            <p:nvPr/>
          </p:nvSpPr>
          <p:spPr>
            <a:xfrm>
              <a:off x="4757040" y="1655640"/>
              <a:ext cx="1800" cy="298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757040" y="2422800"/>
              <a:ext cx="1587600" cy="1109520"/>
            </a:xfrm>
            <a:custGeom>
              <a:avLst/>
              <a:gdLst/>
              <a:ahLst/>
              <a:rect l="l" t="t" r="r" b="b"/>
              <a:pathLst>
                <a:path w="959" h="624">
                  <a:moveTo>
                    <a:pt x="0" y="624"/>
                  </a:moveTo>
                  <a:lnTo>
                    <a:pt x="50" y="351"/>
                  </a:lnTo>
                  <a:lnTo>
                    <a:pt x="151" y="117"/>
                  </a:lnTo>
                  <a:lnTo>
                    <a:pt x="252" y="39"/>
                  </a:lnTo>
                  <a:lnTo>
                    <a:pt x="404" y="0"/>
                  </a:lnTo>
                  <a:lnTo>
                    <a:pt x="959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3165840" y="3445560"/>
              <a:ext cx="1589040" cy="1109520"/>
            </a:xfrm>
            <a:custGeom>
              <a:avLst/>
              <a:gdLst/>
              <a:ahLst/>
              <a:rect l="l" t="t" r="r" b="b"/>
              <a:pathLst>
                <a:path w="959" h="624">
                  <a:moveTo>
                    <a:pt x="959" y="0"/>
                  </a:moveTo>
                  <a:lnTo>
                    <a:pt x="909" y="273"/>
                  </a:lnTo>
                  <a:lnTo>
                    <a:pt x="808" y="507"/>
                  </a:lnTo>
                  <a:lnTo>
                    <a:pt x="707" y="585"/>
                  </a:lnTo>
                  <a:lnTo>
                    <a:pt x="555" y="624"/>
                  </a:lnTo>
                  <a:lnTo>
                    <a:pt x="0" y="624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4757040" y="3447000"/>
              <a:ext cx="1587600" cy="1109880"/>
            </a:xfrm>
            <a:custGeom>
              <a:avLst/>
              <a:gdLst/>
              <a:ahLst/>
              <a:rect l="l" t="t" r="r" b="b"/>
              <a:pathLst>
                <a:path w="959" h="624">
                  <a:moveTo>
                    <a:pt x="0" y="0"/>
                  </a:moveTo>
                  <a:lnTo>
                    <a:pt x="50" y="273"/>
                  </a:lnTo>
                  <a:lnTo>
                    <a:pt x="151" y="507"/>
                  </a:lnTo>
                  <a:lnTo>
                    <a:pt x="252" y="585"/>
                  </a:lnTo>
                  <a:lnTo>
                    <a:pt x="404" y="624"/>
                  </a:lnTo>
                  <a:lnTo>
                    <a:pt x="959" y="624"/>
                  </a:lnTo>
                </a:path>
              </a:pathLst>
            </a:custGeom>
            <a:noFill/>
            <a:ln w="19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3164400" y="2422800"/>
              <a:ext cx="1588680" cy="1109520"/>
            </a:xfrm>
            <a:custGeom>
              <a:avLst/>
              <a:gdLst/>
              <a:ahLst/>
              <a:rect l="l" t="t" r="r" b="b"/>
              <a:pathLst>
                <a:path w="959" h="624">
                  <a:moveTo>
                    <a:pt x="959" y="624"/>
                  </a:moveTo>
                  <a:lnTo>
                    <a:pt x="909" y="351"/>
                  </a:lnTo>
                  <a:lnTo>
                    <a:pt x="808" y="117"/>
                  </a:lnTo>
                  <a:lnTo>
                    <a:pt x="707" y="39"/>
                  </a:lnTo>
                  <a:lnTo>
                    <a:pt x="555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 flipH="1">
              <a:off x="4676760" y="1655640"/>
              <a:ext cx="79560" cy="16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757040" y="1655640"/>
              <a:ext cx="79560" cy="16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2610000" y="4557240"/>
              <a:ext cx="4772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 flipH="1" flipV="1">
              <a:off x="7222680" y="4471200"/>
              <a:ext cx="15948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 flipH="1">
              <a:off x="7222680" y="4557240"/>
              <a:ext cx="159480" cy="8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4280400" y="4387680"/>
              <a:ext cx="952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4280400" y="2594160"/>
              <a:ext cx="952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5073120" y="4146840"/>
              <a:ext cx="25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5073120" y="2698200"/>
              <a:ext cx="25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3802320" y="24411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108840" y="24411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677120" y="3447000"/>
              <a:ext cx="159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148440" y="25758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3841200" y="25758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028200" y="4660920"/>
              <a:ext cx="307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108840" y="4471200"/>
              <a:ext cx="144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3405240" y="4471200"/>
              <a:ext cx="144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3245760" y="4660920"/>
              <a:ext cx="37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849360" y="4048560"/>
              <a:ext cx="12916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WEr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[mV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7" name=""/>
          <p:cNvSpPr/>
          <p:nvPr/>
        </p:nvSpPr>
        <p:spPr>
          <a:xfrm>
            <a:off x="4403520" y="1353960"/>
            <a:ext cx="930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8" name=""/>
              <p:cNvSpPr txBox="1"/>
              <p:nvPr/>
            </p:nvSpPr>
            <p:spPr>
              <a:xfrm>
                <a:off x="262080" y="2335320"/>
                <a:ext cx="1995480" cy="21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I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≈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E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+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 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r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ϕ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den>
                                </m:f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I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≈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E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+e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r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ϕ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den>
                                </m:f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stałoprądowe wzmacniacza różnic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0" name=""/>
          <p:cNvGrpSpPr/>
          <p:nvPr/>
        </p:nvGrpSpPr>
        <p:grpSpPr>
          <a:xfrm>
            <a:off x="3299760" y="1230480"/>
            <a:ext cx="4803120" cy="3920760"/>
            <a:chOff x="3299760" y="1230480"/>
            <a:chExt cx="4803120" cy="3920760"/>
          </a:xfrm>
        </p:grpSpPr>
        <p:sp>
          <p:nvSpPr>
            <p:cNvPr id="1511" name=""/>
            <p:cNvSpPr/>
            <p:nvPr/>
          </p:nvSpPr>
          <p:spPr>
            <a:xfrm>
              <a:off x="6811200" y="2579040"/>
              <a:ext cx="12916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WEr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[mV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5794920" y="1535760"/>
              <a:ext cx="1800" cy="361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3828240" y="3343680"/>
              <a:ext cx="4129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5696640" y="313092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5696640" y="281160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696640" y="249264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5696640" y="217368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5696640" y="185472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5696640" y="483228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5696640" y="451332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5696640" y="419436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5696640" y="387540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5696640" y="355644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4" name=""/>
            <p:cNvGrpSpPr/>
            <p:nvPr/>
          </p:nvGrpSpPr>
          <p:grpSpPr>
            <a:xfrm>
              <a:off x="4418280" y="3236760"/>
              <a:ext cx="2754360" cy="212040"/>
              <a:chOff x="4418280" y="3236760"/>
              <a:chExt cx="2754360" cy="212040"/>
            </a:xfrm>
          </p:grpSpPr>
          <p:sp>
            <p:nvSpPr>
              <p:cNvPr id="1525" name=""/>
              <p:cNvSpPr/>
              <p:nvPr/>
            </p:nvSpPr>
            <p:spPr>
              <a:xfrm flipV="1">
                <a:off x="5597640" y="3236760"/>
                <a:ext cx="216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 flipV="1">
                <a:off x="5302800" y="3236760"/>
                <a:ext cx="216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 flipV="1">
                <a:off x="5007960" y="3236760"/>
                <a:ext cx="216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 flipV="1">
                <a:off x="4713120" y="3236760"/>
                <a:ext cx="216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 flipV="1">
                <a:off x="4418280" y="3236760"/>
                <a:ext cx="216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 flipV="1">
                <a:off x="7170840" y="3236760"/>
                <a:ext cx="180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 flipV="1">
                <a:off x="6876000" y="3236760"/>
                <a:ext cx="180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 flipV="1">
                <a:off x="6581160" y="3236760"/>
                <a:ext cx="180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 flipV="1">
                <a:off x="6285960" y="3236760"/>
                <a:ext cx="180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 flipV="1">
                <a:off x="5991120" y="3236760"/>
                <a:ext cx="180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5" name=""/>
            <p:cNvSpPr/>
            <p:nvPr/>
          </p:nvSpPr>
          <p:spPr>
            <a:xfrm>
              <a:off x="7170480" y="3472200"/>
              <a:ext cx="307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3827880" y="3472200"/>
              <a:ext cx="37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5695200" y="34275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826440" y="1961280"/>
              <a:ext cx="1964160" cy="1382400"/>
            </a:xfrm>
            <a:custGeom>
              <a:avLst/>
              <a:gdLst/>
              <a:ahLst/>
              <a:rect l="l" t="t" r="r" b="b"/>
              <a:pathLst>
                <a:path w="959" h="624">
                  <a:moveTo>
                    <a:pt x="959" y="624"/>
                  </a:moveTo>
                  <a:lnTo>
                    <a:pt x="909" y="351"/>
                  </a:lnTo>
                  <a:lnTo>
                    <a:pt x="808" y="117"/>
                  </a:lnTo>
                  <a:lnTo>
                    <a:pt x="707" y="39"/>
                  </a:lnTo>
                  <a:lnTo>
                    <a:pt x="555" y="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3828240" y="2811600"/>
              <a:ext cx="1959840" cy="529200"/>
            </a:xfrm>
            <a:custGeom>
              <a:avLst/>
              <a:gdLst/>
              <a:ahLst/>
              <a:rect l="l" t="t" r="r" b="b"/>
              <a:pathLst>
                <a:path w="957" h="239">
                  <a:moveTo>
                    <a:pt x="957" y="239"/>
                  </a:moveTo>
                  <a:lnTo>
                    <a:pt x="908" y="134"/>
                  </a:lnTo>
                  <a:lnTo>
                    <a:pt x="807" y="44"/>
                  </a:lnTo>
                  <a:lnTo>
                    <a:pt x="706" y="14"/>
                  </a:lnTo>
                  <a:lnTo>
                    <a:pt x="554" y="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790960" y="3343680"/>
              <a:ext cx="1964160" cy="1381680"/>
            </a:xfrm>
            <a:custGeom>
              <a:avLst/>
              <a:gdLst/>
              <a:ahLst/>
              <a:rect l="l" t="t" r="r" b="b"/>
              <a:pathLst>
                <a:path w="959" h="624">
                  <a:moveTo>
                    <a:pt x="0" y="0"/>
                  </a:moveTo>
                  <a:lnTo>
                    <a:pt x="50" y="273"/>
                  </a:lnTo>
                  <a:lnTo>
                    <a:pt x="151" y="507"/>
                  </a:lnTo>
                  <a:lnTo>
                    <a:pt x="252" y="585"/>
                  </a:lnTo>
                  <a:lnTo>
                    <a:pt x="404" y="624"/>
                  </a:lnTo>
                  <a:lnTo>
                    <a:pt x="959" y="624"/>
                  </a:lnTo>
                </a:path>
              </a:pathLst>
            </a:custGeom>
            <a:noFill/>
            <a:ln w="255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5790960" y="3343680"/>
              <a:ext cx="1959840" cy="529200"/>
            </a:xfrm>
            <a:custGeom>
              <a:avLst/>
              <a:gdLst/>
              <a:ahLst/>
              <a:rect l="l" t="t" r="r" b="b"/>
              <a:pathLst>
                <a:path w="957" h="239">
                  <a:moveTo>
                    <a:pt x="0" y="0"/>
                  </a:moveTo>
                  <a:lnTo>
                    <a:pt x="49" y="105"/>
                  </a:lnTo>
                  <a:lnTo>
                    <a:pt x="150" y="195"/>
                  </a:lnTo>
                  <a:lnTo>
                    <a:pt x="251" y="225"/>
                  </a:lnTo>
                  <a:lnTo>
                    <a:pt x="403" y="239"/>
                  </a:lnTo>
                  <a:lnTo>
                    <a:pt x="957" y="239"/>
                  </a:lnTo>
                </a:path>
              </a:pathLst>
            </a:custGeom>
            <a:noFill/>
            <a:ln w="255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3299760" y="1230480"/>
              <a:ext cx="14263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400" spc="-1" strike="noStrike">
                  <a:solidFill>
                    <a:srgbClr val="0033cc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33cc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&gt; 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4320720" y="4619880"/>
              <a:ext cx="506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     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4538520" y="4241160"/>
              <a:ext cx="15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3398760" y="2176200"/>
              <a:ext cx="8348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 flipH="1">
              <a:off x="5696280" y="1535760"/>
              <a:ext cx="9828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5794920" y="1535760"/>
              <a:ext cx="9792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7761240" y="3237120"/>
              <a:ext cx="196200" cy="10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 flipH="1">
              <a:off x="7760880" y="3343680"/>
              <a:ext cx="19620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187680" y="1385640"/>
              <a:ext cx="10144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[V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5498640" y="16642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5500080" y="4748400"/>
              <a:ext cx="16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53" name=""/>
              <p:cNvSpPr txBox="1"/>
              <p:nvPr/>
            </p:nvSpPr>
            <p:spPr>
              <a:xfrm>
                <a:off x="353880" y="4051440"/>
                <a:ext cx="3473640" cy="16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r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4" name=""/>
              <p:cNvSpPr txBox="1"/>
              <p:nvPr/>
            </p:nvSpPr>
            <p:spPr>
              <a:xfrm>
                <a:off x="520560" y="5900760"/>
                <a:ext cx="231804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m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"/>
          <p:cNvSpPr/>
          <p:nvPr/>
        </p:nvSpPr>
        <p:spPr>
          <a:xfrm>
            <a:off x="243000" y="452520"/>
            <a:ext cx="8597880" cy="56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1. Przy napięciach wejściowych różnicowych  większych od około 100mV  wzmacniacz różnicowy na tranzystorach bipolarnych zaczyna ograniczać poziom sygnał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2. Dla napięć wejściowych różnicowych powyżej 200mV wzmacniacz różnicowy przestaje wzmacniać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3. W celu zwiększenia impedancji wejściowych wzmacniacza różnicowego stosuje    się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kłady Darlington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ranzystory polowe (układy tzw. BiFet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4. Tranzystory tzw. Super-Beta o wzmocnieniu prądowym n*1000 A/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6" name=""/>
          <p:cNvGrpSpPr/>
          <p:nvPr/>
        </p:nvGrpSpPr>
        <p:grpSpPr>
          <a:xfrm>
            <a:off x="3932280" y="3949560"/>
            <a:ext cx="624960" cy="833400"/>
            <a:chOff x="3932280" y="3949560"/>
            <a:chExt cx="624960" cy="833400"/>
          </a:xfrm>
        </p:grpSpPr>
        <p:grpSp>
          <p:nvGrpSpPr>
            <p:cNvPr id="1557" name=""/>
            <p:cNvGrpSpPr/>
            <p:nvPr/>
          </p:nvGrpSpPr>
          <p:grpSpPr>
            <a:xfrm>
              <a:off x="4396680" y="4286880"/>
              <a:ext cx="160560" cy="322200"/>
              <a:chOff x="4396680" y="4286880"/>
              <a:chExt cx="160560" cy="322200"/>
            </a:xfrm>
          </p:grpSpPr>
          <p:sp>
            <p:nvSpPr>
              <p:cNvPr id="1558" name=""/>
              <p:cNvSpPr/>
              <p:nvPr/>
            </p:nvSpPr>
            <p:spPr>
              <a:xfrm>
                <a:off x="4396680" y="4287240"/>
                <a:ext cx="0" cy="321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4396680" y="4448160"/>
                <a:ext cx="160560" cy="16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 flipV="1">
                <a:off x="4396680" y="4286880"/>
                <a:ext cx="160560" cy="16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1" name=""/>
            <p:cNvGrpSpPr/>
            <p:nvPr/>
          </p:nvGrpSpPr>
          <p:grpSpPr>
            <a:xfrm>
              <a:off x="4110840" y="4150440"/>
              <a:ext cx="160560" cy="322200"/>
              <a:chOff x="4110840" y="4150440"/>
              <a:chExt cx="160560" cy="322200"/>
            </a:xfrm>
          </p:grpSpPr>
          <p:sp>
            <p:nvSpPr>
              <p:cNvPr id="1562" name=""/>
              <p:cNvSpPr/>
              <p:nvPr/>
            </p:nvSpPr>
            <p:spPr>
              <a:xfrm>
                <a:off x="4110840" y="4150800"/>
                <a:ext cx="0" cy="321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4110840" y="4311720"/>
                <a:ext cx="160560" cy="16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 flipV="1">
                <a:off x="4110840" y="4150440"/>
                <a:ext cx="160560" cy="16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5" name=""/>
            <p:cNvSpPr/>
            <p:nvPr/>
          </p:nvSpPr>
          <p:spPr>
            <a:xfrm>
              <a:off x="4267080" y="4459320"/>
              <a:ext cx="12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4267080" y="4148640"/>
              <a:ext cx="28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 flipV="1">
              <a:off x="4539600" y="3949560"/>
              <a:ext cx="0" cy="33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>
              <a:off x="3932280" y="4311000"/>
              <a:ext cx="16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539600" y="4596120"/>
              <a:ext cx="0" cy="18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0" name=""/>
          <p:cNvSpPr/>
          <p:nvPr/>
        </p:nvSpPr>
        <p:spPr>
          <a:xfrm>
            <a:off x="7445520" y="331632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1" name=""/>
          <p:cNvGrpSpPr/>
          <p:nvPr/>
        </p:nvGrpSpPr>
        <p:grpSpPr>
          <a:xfrm>
            <a:off x="5892840" y="4779720"/>
            <a:ext cx="624960" cy="707760"/>
            <a:chOff x="5892840" y="4779720"/>
            <a:chExt cx="624960" cy="707760"/>
          </a:xfrm>
        </p:grpSpPr>
        <p:grpSp>
          <p:nvGrpSpPr>
            <p:cNvPr id="1572" name=""/>
            <p:cNvGrpSpPr/>
            <p:nvPr/>
          </p:nvGrpSpPr>
          <p:grpSpPr>
            <a:xfrm>
              <a:off x="6370560" y="5054400"/>
              <a:ext cx="131040" cy="262080"/>
              <a:chOff x="6370560" y="5054400"/>
              <a:chExt cx="131040" cy="262080"/>
            </a:xfrm>
          </p:grpSpPr>
          <p:sp>
            <p:nvSpPr>
              <p:cNvPr id="1573" name=""/>
              <p:cNvSpPr/>
              <p:nvPr/>
            </p:nvSpPr>
            <p:spPr>
              <a:xfrm>
                <a:off x="6370560" y="5054400"/>
                <a:ext cx="0" cy="262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6370560" y="5185440"/>
                <a:ext cx="131040" cy="13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 flipV="1">
                <a:off x="6370560" y="5054400"/>
                <a:ext cx="131040" cy="13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6" name=""/>
            <p:cNvSpPr/>
            <p:nvPr/>
          </p:nvSpPr>
          <p:spPr>
            <a:xfrm>
              <a:off x="6074640" y="5002200"/>
              <a:ext cx="0" cy="25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5892840" y="5134320"/>
              <a:ext cx="18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6074640" y="5083200"/>
              <a:ext cx="14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081120" y="5180760"/>
              <a:ext cx="28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V="1">
              <a:off x="6215760" y="4880880"/>
              <a:ext cx="0" cy="20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 flipV="1">
              <a:off x="6499800" y="4779720"/>
              <a:ext cx="0" cy="28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6226920" y="4890960"/>
              <a:ext cx="27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6499800" y="5316480"/>
              <a:ext cx="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6475320" y="4867560"/>
              <a:ext cx="42480" cy="42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zmacniacza różnic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71640" y="2287440"/>
            <a:ext cx="9064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Praktycznie wszystkie stopnie wejściowe wzmacniaczy operacyjny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Stopnie wejściowe wzmacniaczy mo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Wzmacniacze o liniowo regulowanym wzmocnieni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układu o strukturz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a różnic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162000" y="1582560"/>
            <a:ext cx="8840880" cy="41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. Jako wzmacniacz sygnałów różnicowych, z jednoczesnym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łumieniem sygnałów wspólny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. Jako tzw. wzmacniacz-ogranicznik (eliminacja zakłóceń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3. Klucz prądow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4. Regulator poziomu sygnał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5. Układ mnożący - modulator amplitudy, detektor fazy, it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6. Kaskoda (o regulowanym wzmocnieniu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yft napięciowy i prąd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1120" y="3929040"/>
            <a:ext cx="7675560" cy="2311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Dryft napięci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jest to zmiana poziomu napięcia wyjściowego wywołana zmianami temperatury i/lub wzmocnienia przy 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con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Dryft prąd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jest to zmiana wartości prądu wyjściowego wywołana zmianami temperatury i/lub wzmocnienia przy 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con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87560" y="1012680"/>
            <a:ext cx="7092720" cy="2575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 idealnym wzmacniaczu prądu stałeg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f(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=const. jeśli 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con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rzeczywistym wzmacniaczu prądu stałego napięcie (prą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a wyjściu zmienia się, mimo że sygnał wejściowy jest stał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Zjawisko to nazywamy dryftem wzmacniacza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miczny dryft napięciowy i prąd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228600" y="4038480"/>
                <a:ext cx="16239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7162920" y="3962520"/>
                <a:ext cx="150804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04920" y="5334120"/>
                <a:ext cx="167472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sSub>
                              <m:e>
                                <m:r>
                                  <m:t xml:space="preserve">Δ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den>
                        </m:f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7238880" y="5105520"/>
                <a:ext cx="150660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sSub>
                              <m:e>
                                <m:r>
                                  <m:t xml:space="preserve">Δ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den>
                        </m:f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4" name=""/>
          <p:cNvGrpSpPr/>
          <p:nvPr/>
        </p:nvGrpSpPr>
        <p:grpSpPr>
          <a:xfrm>
            <a:off x="2133720" y="1066680"/>
            <a:ext cx="4800600" cy="3771360"/>
            <a:chOff x="2133720" y="1066680"/>
            <a:chExt cx="4800600" cy="3771360"/>
          </a:xfrm>
        </p:grpSpPr>
        <p:sp>
          <p:nvSpPr>
            <p:cNvPr id="95" name=""/>
            <p:cNvSpPr/>
            <p:nvPr/>
          </p:nvSpPr>
          <p:spPr>
            <a:xfrm>
              <a:off x="6567480" y="43783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133720" y="4268880"/>
              <a:ext cx="480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2344680" y="1239840"/>
              <a:ext cx="0" cy="32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589120" y="1066680"/>
              <a:ext cx="1243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981160" y="2085840"/>
              <a:ext cx="2963880" cy="1055880"/>
            </a:xfrm>
            <a:custGeom>
              <a:avLst/>
              <a:gdLst/>
              <a:ahLst/>
              <a:rect l="l" t="t" r="r" b="b"/>
              <a:pathLst>
                <a:path w="2016" h="720">
                  <a:moveTo>
                    <a:pt x="0" y="720"/>
                  </a:moveTo>
                  <a:cubicBezTo>
                    <a:pt x="264" y="580"/>
                    <a:pt x="528" y="440"/>
                    <a:pt x="768" y="336"/>
                  </a:cubicBezTo>
                  <a:cubicBezTo>
                    <a:pt x="1008" y="232"/>
                    <a:pt x="1232" y="152"/>
                    <a:pt x="1440" y="96"/>
                  </a:cubicBezTo>
                  <a:cubicBezTo>
                    <a:pt x="1648" y="40"/>
                    <a:pt x="1920" y="16"/>
                    <a:pt x="201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898520" y="1371600"/>
              <a:ext cx="1567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=cons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581280" y="281952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5257800" y="22096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81280" y="2819520"/>
              <a:ext cx="0" cy="14475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257800" y="2819520"/>
              <a:ext cx="0" cy="14475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2286000" y="2819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2361960" y="2209680"/>
              <a:ext cx="2895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yft wzmocnie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668600" y="1631520"/>
            <a:ext cx="1440" cy="39639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93920" y="5322960"/>
            <a:ext cx="451152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530360" y="1631880"/>
            <a:ext cx="138240" cy="273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68600" y="1631880"/>
            <a:ext cx="136440" cy="273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5632560" y="5186160"/>
            <a:ext cx="272880" cy="136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2560" y="5322960"/>
            <a:ext cx="272880" cy="136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50960" y="2981160"/>
            <a:ext cx="3708360" cy="430200"/>
          </a:xfrm>
          <a:custGeom>
            <a:avLst/>
            <a:gdLst/>
            <a:ahLst/>
            <a:rect l="l" t="t" r="r" b="b"/>
            <a:pathLst>
              <a:path w="2336" h="271">
                <a:moveTo>
                  <a:pt x="3" y="169"/>
                </a:moveTo>
                <a:lnTo>
                  <a:pt x="0" y="160"/>
                </a:lnTo>
                <a:lnTo>
                  <a:pt x="9" y="160"/>
                </a:lnTo>
                <a:lnTo>
                  <a:pt x="20" y="160"/>
                </a:lnTo>
                <a:lnTo>
                  <a:pt x="30" y="158"/>
                </a:lnTo>
                <a:lnTo>
                  <a:pt x="30" y="157"/>
                </a:lnTo>
                <a:lnTo>
                  <a:pt x="30" y="153"/>
                </a:lnTo>
                <a:lnTo>
                  <a:pt x="39" y="153"/>
                </a:lnTo>
                <a:lnTo>
                  <a:pt x="39" y="151"/>
                </a:lnTo>
                <a:lnTo>
                  <a:pt x="50" y="151"/>
                </a:lnTo>
                <a:lnTo>
                  <a:pt x="50" y="146"/>
                </a:lnTo>
                <a:lnTo>
                  <a:pt x="61" y="146"/>
                </a:lnTo>
                <a:lnTo>
                  <a:pt x="61" y="144"/>
                </a:lnTo>
                <a:lnTo>
                  <a:pt x="61" y="142"/>
                </a:lnTo>
                <a:lnTo>
                  <a:pt x="70" y="137"/>
                </a:lnTo>
                <a:lnTo>
                  <a:pt x="81" y="135"/>
                </a:lnTo>
                <a:lnTo>
                  <a:pt x="91" y="135"/>
                </a:lnTo>
                <a:lnTo>
                  <a:pt x="102" y="130"/>
                </a:lnTo>
                <a:lnTo>
                  <a:pt x="111" y="126"/>
                </a:lnTo>
                <a:lnTo>
                  <a:pt x="122" y="126"/>
                </a:lnTo>
                <a:lnTo>
                  <a:pt x="133" y="122"/>
                </a:lnTo>
                <a:lnTo>
                  <a:pt x="142" y="122"/>
                </a:lnTo>
                <a:lnTo>
                  <a:pt x="142" y="119"/>
                </a:lnTo>
                <a:lnTo>
                  <a:pt x="142" y="117"/>
                </a:lnTo>
                <a:lnTo>
                  <a:pt x="152" y="117"/>
                </a:lnTo>
                <a:lnTo>
                  <a:pt x="152" y="113"/>
                </a:lnTo>
                <a:lnTo>
                  <a:pt x="163" y="112"/>
                </a:lnTo>
                <a:lnTo>
                  <a:pt x="163" y="110"/>
                </a:lnTo>
                <a:lnTo>
                  <a:pt x="163" y="106"/>
                </a:lnTo>
                <a:lnTo>
                  <a:pt x="172" y="106"/>
                </a:lnTo>
                <a:lnTo>
                  <a:pt x="172" y="105"/>
                </a:lnTo>
                <a:lnTo>
                  <a:pt x="172" y="99"/>
                </a:lnTo>
                <a:lnTo>
                  <a:pt x="183" y="97"/>
                </a:lnTo>
                <a:lnTo>
                  <a:pt x="183" y="96"/>
                </a:lnTo>
                <a:lnTo>
                  <a:pt x="183" y="94"/>
                </a:lnTo>
                <a:lnTo>
                  <a:pt x="183" y="90"/>
                </a:lnTo>
                <a:lnTo>
                  <a:pt x="183" y="88"/>
                </a:lnTo>
                <a:lnTo>
                  <a:pt x="183" y="87"/>
                </a:lnTo>
                <a:lnTo>
                  <a:pt x="183" y="83"/>
                </a:lnTo>
                <a:lnTo>
                  <a:pt x="183" y="81"/>
                </a:lnTo>
                <a:lnTo>
                  <a:pt x="183" y="79"/>
                </a:lnTo>
                <a:lnTo>
                  <a:pt x="183" y="76"/>
                </a:lnTo>
                <a:lnTo>
                  <a:pt x="183" y="74"/>
                </a:lnTo>
                <a:lnTo>
                  <a:pt x="183" y="72"/>
                </a:lnTo>
                <a:lnTo>
                  <a:pt x="194" y="72"/>
                </a:lnTo>
                <a:lnTo>
                  <a:pt x="194" y="70"/>
                </a:lnTo>
                <a:lnTo>
                  <a:pt x="204" y="70"/>
                </a:lnTo>
                <a:lnTo>
                  <a:pt x="204" y="67"/>
                </a:lnTo>
                <a:lnTo>
                  <a:pt x="213" y="67"/>
                </a:lnTo>
                <a:lnTo>
                  <a:pt x="213" y="65"/>
                </a:lnTo>
                <a:lnTo>
                  <a:pt x="213" y="63"/>
                </a:lnTo>
                <a:lnTo>
                  <a:pt x="224" y="63"/>
                </a:lnTo>
                <a:lnTo>
                  <a:pt x="224" y="60"/>
                </a:lnTo>
                <a:lnTo>
                  <a:pt x="235" y="60"/>
                </a:lnTo>
                <a:lnTo>
                  <a:pt x="244" y="58"/>
                </a:lnTo>
                <a:lnTo>
                  <a:pt x="255" y="56"/>
                </a:lnTo>
                <a:lnTo>
                  <a:pt x="265" y="51"/>
                </a:lnTo>
                <a:lnTo>
                  <a:pt x="274" y="51"/>
                </a:lnTo>
                <a:lnTo>
                  <a:pt x="296" y="49"/>
                </a:lnTo>
                <a:lnTo>
                  <a:pt x="307" y="47"/>
                </a:lnTo>
                <a:lnTo>
                  <a:pt x="326" y="44"/>
                </a:lnTo>
                <a:lnTo>
                  <a:pt x="346" y="42"/>
                </a:lnTo>
                <a:lnTo>
                  <a:pt x="357" y="40"/>
                </a:lnTo>
                <a:lnTo>
                  <a:pt x="377" y="36"/>
                </a:lnTo>
                <a:lnTo>
                  <a:pt x="387" y="35"/>
                </a:lnTo>
                <a:lnTo>
                  <a:pt x="409" y="33"/>
                </a:lnTo>
                <a:lnTo>
                  <a:pt x="418" y="33"/>
                </a:lnTo>
                <a:lnTo>
                  <a:pt x="429" y="29"/>
                </a:lnTo>
                <a:lnTo>
                  <a:pt x="439" y="29"/>
                </a:lnTo>
                <a:lnTo>
                  <a:pt x="448" y="26"/>
                </a:lnTo>
                <a:lnTo>
                  <a:pt x="470" y="24"/>
                </a:lnTo>
                <a:lnTo>
                  <a:pt x="479" y="24"/>
                </a:lnTo>
                <a:lnTo>
                  <a:pt x="490" y="20"/>
                </a:lnTo>
                <a:lnTo>
                  <a:pt x="511" y="18"/>
                </a:lnTo>
                <a:lnTo>
                  <a:pt x="511" y="17"/>
                </a:lnTo>
                <a:lnTo>
                  <a:pt x="520" y="13"/>
                </a:lnTo>
                <a:lnTo>
                  <a:pt x="542" y="13"/>
                </a:lnTo>
                <a:lnTo>
                  <a:pt x="551" y="13"/>
                </a:lnTo>
                <a:lnTo>
                  <a:pt x="561" y="13"/>
                </a:lnTo>
                <a:lnTo>
                  <a:pt x="561" y="11"/>
                </a:lnTo>
                <a:lnTo>
                  <a:pt x="561" y="9"/>
                </a:lnTo>
                <a:lnTo>
                  <a:pt x="561" y="6"/>
                </a:lnTo>
                <a:lnTo>
                  <a:pt x="592" y="6"/>
                </a:lnTo>
                <a:lnTo>
                  <a:pt x="644" y="2"/>
                </a:lnTo>
                <a:lnTo>
                  <a:pt x="644" y="0"/>
                </a:lnTo>
                <a:lnTo>
                  <a:pt x="644" y="2"/>
                </a:lnTo>
                <a:lnTo>
                  <a:pt x="653" y="4"/>
                </a:lnTo>
                <a:lnTo>
                  <a:pt x="674" y="4"/>
                </a:lnTo>
                <a:lnTo>
                  <a:pt x="694" y="4"/>
                </a:lnTo>
                <a:lnTo>
                  <a:pt x="705" y="4"/>
                </a:lnTo>
                <a:lnTo>
                  <a:pt x="716" y="4"/>
                </a:lnTo>
                <a:lnTo>
                  <a:pt x="735" y="4"/>
                </a:lnTo>
                <a:lnTo>
                  <a:pt x="755" y="4"/>
                </a:lnTo>
                <a:lnTo>
                  <a:pt x="766" y="4"/>
                </a:lnTo>
                <a:lnTo>
                  <a:pt x="777" y="4"/>
                </a:lnTo>
                <a:lnTo>
                  <a:pt x="786" y="4"/>
                </a:lnTo>
                <a:lnTo>
                  <a:pt x="796" y="4"/>
                </a:lnTo>
                <a:lnTo>
                  <a:pt x="807" y="4"/>
                </a:lnTo>
                <a:lnTo>
                  <a:pt x="818" y="4"/>
                </a:lnTo>
                <a:lnTo>
                  <a:pt x="838" y="4"/>
                </a:lnTo>
                <a:lnTo>
                  <a:pt x="848" y="4"/>
                </a:lnTo>
                <a:lnTo>
                  <a:pt x="868" y="4"/>
                </a:lnTo>
                <a:lnTo>
                  <a:pt x="879" y="4"/>
                </a:lnTo>
                <a:lnTo>
                  <a:pt x="890" y="4"/>
                </a:lnTo>
                <a:lnTo>
                  <a:pt x="909" y="4"/>
                </a:lnTo>
                <a:lnTo>
                  <a:pt x="920" y="4"/>
                </a:lnTo>
                <a:lnTo>
                  <a:pt x="929" y="4"/>
                </a:lnTo>
                <a:lnTo>
                  <a:pt x="951" y="4"/>
                </a:lnTo>
                <a:lnTo>
                  <a:pt x="960" y="4"/>
                </a:lnTo>
                <a:lnTo>
                  <a:pt x="970" y="4"/>
                </a:lnTo>
                <a:lnTo>
                  <a:pt x="981" y="4"/>
                </a:lnTo>
                <a:lnTo>
                  <a:pt x="1001" y="4"/>
                </a:lnTo>
                <a:lnTo>
                  <a:pt x="1012" y="4"/>
                </a:lnTo>
                <a:lnTo>
                  <a:pt x="1031" y="4"/>
                </a:lnTo>
                <a:lnTo>
                  <a:pt x="1042" y="6"/>
                </a:lnTo>
                <a:lnTo>
                  <a:pt x="1053" y="6"/>
                </a:lnTo>
                <a:lnTo>
                  <a:pt x="1073" y="9"/>
                </a:lnTo>
                <a:lnTo>
                  <a:pt x="1083" y="11"/>
                </a:lnTo>
                <a:lnTo>
                  <a:pt x="1103" y="11"/>
                </a:lnTo>
                <a:lnTo>
                  <a:pt x="1114" y="13"/>
                </a:lnTo>
                <a:lnTo>
                  <a:pt x="1125" y="13"/>
                </a:lnTo>
                <a:lnTo>
                  <a:pt x="1144" y="17"/>
                </a:lnTo>
                <a:lnTo>
                  <a:pt x="1164" y="20"/>
                </a:lnTo>
                <a:lnTo>
                  <a:pt x="1196" y="24"/>
                </a:lnTo>
                <a:lnTo>
                  <a:pt x="1205" y="26"/>
                </a:lnTo>
                <a:lnTo>
                  <a:pt x="1227" y="27"/>
                </a:lnTo>
                <a:lnTo>
                  <a:pt x="1247" y="33"/>
                </a:lnTo>
                <a:lnTo>
                  <a:pt x="1266" y="35"/>
                </a:lnTo>
                <a:lnTo>
                  <a:pt x="1288" y="36"/>
                </a:lnTo>
                <a:lnTo>
                  <a:pt x="1318" y="40"/>
                </a:lnTo>
                <a:lnTo>
                  <a:pt x="1329" y="42"/>
                </a:lnTo>
                <a:lnTo>
                  <a:pt x="1349" y="44"/>
                </a:lnTo>
                <a:lnTo>
                  <a:pt x="1369" y="47"/>
                </a:lnTo>
                <a:lnTo>
                  <a:pt x="1379" y="49"/>
                </a:lnTo>
                <a:lnTo>
                  <a:pt x="1410" y="52"/>
                </a:lnTo>
                <a:lnTo>
                  <a:pt x="1410" y="56"/>
                </a:lnTo>
                <a:lnTo>
                  <a:pt x="1421" y="58"/>
                </a:lnTo>
                <a:lnTo>
                  <a:pt x="1431" y="58"/>
                </a:lnTo>
                <a:lnTo>
                  <a:pt x="1451" y="63"/>
                </a:lnTo>
                <a:lnTo>
                  <a:pt x="1462" y="65"/>
                </a:lnTo>
                <a:lnTo>
                  <a:pt x="1482" y="67"/>
                </a:lnTo>
                <a:lnTo>
                  <a:pt x="1503" y="70"/>
                </a:lnTo>
                <a:lnTo>
                  <a:pt x="1534" y="76"/>
                </a:lnTo>
                <a:lnTo>
                  <a:pt x="1543" y="79"/>
                </a:lnTo>
                <a:lnTo>
                  <a:pt x="1553" y="81"/>
                </a:lnTo>
                <a:lnTo>
                  <a:pt x="1564" y="83"/>
                </a:lnTo>
                <a:lnTo>
                  <a:pt x="1573" y="87"/>
                </a:lnTo>
                <a:lnTo>
                  <a:pt x="1573" y="88"/>
                </a:lnTo>
                <a:lnTo>
                  <a:pt x="1573" y="90"/>
                </a:lnTo>
                <a:lnTo>
                  <a:pt x="1584" y="94"/>
                </a:lnTo>
                <a:lnTo>
                  <a:pt x="1595" y="96"/>
                </a:lnTo>
                <a:lnTo>
                  <a:pt x="1605" y="97"/>
                </a:lnTo>
                <a:lnTo>
                  <a:pt x="1614" y="103"/>
                </a:lnTo>
                <a:lnTo>
                  <a:pt x="1614" y="105"/>
                </a:lnTo>
                <a:lnTo>
                  <a:pt x="1625" y="112"/>
                </a:lnTo>
                <a:lnTo>
                  <a:pt x="1636" y="113"/>
                </a:lnTo>
                <a:lnTo>
                  <a:pt x="1656" y="117"/>
                </a:lnTo>
                <a:lnTo>
                  <a:pt x="1666" y="122"/>
                </a:lnTo>
                <a:lnTo>
                  <a:pt x="1686" y="126"/>
                </a:lnTo>
                <a:lnTo>
                  <a:pt x="1708" y="130"/>
                </a:lnTo>
                <a:lnTo>
                  <a:pt x="1727" y="135"/>
                </a:lnTo>
                <a:lnTo>
                  <a:pt x="1738" y="140"/>
                </a:lnTo>
                <a:lnTo>
                  <a:pt x="1758" y="142"/>
                </a:lnTo>
                <a:lnTo>
                  <a:pt x="1779" y="144"/>
                </a:lnTo>
                <a:lnTo>
                  <a:pt x="1788" y="149"/>
                </a:lnTo>
                <a:lnTo>
                  <a:pt x="1799" y="151"/>
                </a:lnTo>
                <a:lnTo>
                  <a:pt x="1819" y="153"/>
                </a:lnTo>
                <a:lnTo>
                  <a:pt x="1830" y="160"/>
                </a:lnTo>
                <a:lnTo>
                  <a:pt x="1849" y="167"/>
                </a:lnTo>
                <a:lnTo>
                  <a:pt x="1871" y="169"/>
                </a:lnTo>
                <a:lnTo>
                  <a:pt x="1901" y="176"/>
                </a:lnTo>
                <a:lnTo>
                  <a:pt x="1932" y="182"/>
                </a:lnTo>
                <a:lnTo>
                  <a:pt x="1943" y="187"/>
                </a:lnTo>
                <a:lnTo>
                  <a:pt x="1962" y="189"/>
                </a:lnTo>
                <a:lnTo>
                  <a:pt x="1973" y="191"/>
                </a:lnTo>
                <a:lnTo>
                  <a:pt x="1984" y="196"/>
                </a:lnTo>
                <a:lnTo>
                  <a:pt x="2004" y="198"/>
                </a:lnTo>
                <a:lnTo>
                  <a:pt x="2023" y="200"/>
                </a:lnTo>
                <a:lnTo>
                  <a:pt x="2045" y="207"/>
                </a:lnTo>
                <a:lnTo>
                  <a:pt x="2065" y="210"/>
                </a:lnTo>
                <a:lnTo>
                  <a:pt x="2086" y="212"/>
                </a:lnTo>
                <a:lnTo>
                  <a:pt x="2106" y="216"/>
                </a:lnTo>
                <a:lnTo>
                  <a:pt x="2126" y="216"/>
                </a:lnTo>
                <a:lnTo>
                  <a:pt x="2147" y="221"/>
                </a:lnTo>
                <a:lnTo>
                  <a:pt x="2147" y="223"/>
                </a:lnTo>
                <a:lnTo>
                  <a:pt x="2156" y="226"/>
                </a:lnTo>
                <a:lnTo>
                  <a:pt x="2167" y="226"/>
                </a:lnTo>
                <a:lnTo>
                  <a:pt x="2178" y="228"/>
                </a:lnTo>
                <a:lnTo>
                  <a:pt x="2197" y="228"/>
                </a:lnTo>
                <a:lnTo>
                  <a:pt x="2228" y="228"/>
                </a:lnTo>
                <a:lnTo>
                  <a:pt x="2239" y="228"/>
                </a:lnTo>
                <a:lnTo>
                  <a:pt x="2249" y="228"/>
                </a:lnTo>
                <a:lnTo>
                  <a:pt x="2258" y="228"/>
                </a:lnTo>
                <a:lnTo>
                  <a:pt x="2280" y="226"/>
                </a:lnTo>
                <a:lnTo>
                  <a:pt x="2300" y="216"/>
                </a:lnTo>
                <a:lnTo>
                  <a:pt x="2310" y="210"/>
                </a:lnTo>
                <a:lnTo>
                  <a:pt x="2310" y="212"/>
                </a:lnTo>
                <a:lnTo>
                  <a:pt x="2310" y="216"/>
                </a:lnTo>
                <a:lnTo>
                  <a:pt x="2310" y="219"/>
                </a:lnTo>
                <a:lnTo>
                  <a:pt x="2336" y="271"/>
                </a:lnTo>
              </a:path>
            </a:pathLst>
          </a:custGeom>
          <a:noFill/>
          <a:ln w="46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81280" y="2998800"/>
            <a:ext cx="1800" cy="2324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38520" y="3271680"/>
            <a:ext cx="1800" cy="2051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81280" y="2998800"/>
            <a:ext cx="2870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38520" y="3271680"/>
            <a:ext cx="1913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78680" y="2725560"/>
            <a:ext cx="1440" cy="820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6041880" y="3271680"/>
            <a:ext cx="136800" cy="138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78680" y="3271680"/>
            <a:ext cx="136440" cy="138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6041880" y="2862000"/>
            <a:ext cx="136800" cy="136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178680" y="2862000"/>
            <a:ext cx="136440" cy="136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71960" y="4229280"/>
            <a:ext cx="1639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4538520" y="4092480"/>
            <a:ext cx="136800" cy="136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38520" y="4229280"/>
            <a:ext cx="136800" cy="136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3444480" y="4092480"/>
            <a:ext cx="136440" cy="136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444480" y="4229280"/>
            <a:ext cx="136440" cy="136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906880" y="5487840"/>
            <a:ext cx="15066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z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mperatu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865520" y="1523880"/>
            <a:ext cx="342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28840" y="3848040"/>
            <a:ext cx="140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72760" y="3027240"/>
            <a:ext cx="30384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37680" y="3816360"/>
            <a:ext cx="171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671520" y="2995560"/>
            <a:ext cx="171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51480" y="5510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89520" y="5554800"/>
            <a:ext cx="74880" cy="668160"/>
          </a:xfrm>
          <a:custGeom>
            <a:avLst/>
            <a:gdLst>
              <a:gd name="textAreaLeft" fmla="*/ 47880 w 74880"/>
              <a:gd name="textAreaRight" fmla="*/ 75240 w 74880"/>
              <a:gd name="textAreaTop" fmla="*/ 17280 h 668160"/>
              <a:gd name="textAreaBottom" fmla="*/ 650880 h 66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7487640" y="5545080"/>
            <a:ext cx="74520" cy="668520"/>
          </a:xfrm>
          <a:custGeom>
            <a:avLst/>
            <a:gdLst>
              <a:gd name="textAreaLeft" fmla="*/ 47160 w 74520"/>
              <a:gd name="textAreaRight" fmla="*/ 74520 w 74520"/>
              <a:gd name="textAreaTop" fmla="*/ 17280 h 668520"/>
              <a:gd name="textAreaBottom" fmla="*/ 651240 h 668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owanie dryf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686480" y="2270160"/>
            <a:ext cx="144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2498760"/>
            <a:ext cx="23004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343240" y="2043000"/>
            <a:ext cx="114120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30440" y="2363760"/>
            <a:ext cx="90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zmacniacz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23240" y="2592360"/>
            <a:ext cx="779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zeczywis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114280" y="2271600"/>
            <a:ext cx="2286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114280" y="2881440"/>
            <a:ext cx="228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199880" y="2271600"/>
            <a:ext cx="6858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00240" y="2271600"/>
            <a:ext cx="144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00240" y="2881440"/>
            <a:ext cx="685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85760" y="250020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04800" y="2195640"/>
            <a:ext cx="304920" cy="15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81160" y="2451240"/>
            <a:ext cx="1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71800" y="2233440"/>
            <a:ext cx="75960" cy="763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71800" y="2843280"/>
            <a:ext cx="75960" cy="7596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86240" y="2881440"/>
            <a:ext cx="380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486240" y="2271600"/>
            <a:ext cx="3808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67120" y="2271600"/>
            <a:ext cx="144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90800" y="2424240"/>
            <a:ext cx="1526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018320" y="251604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95880" y="1754280"/>
            <a:ext cx="801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  = f(Rg,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93440" y="1874880"/>
            <a:ext cx="7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03720" y="198288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52160" y="2516040"/>
            <a:ext cx="18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88120" y="2041560"/>
            <a:ext cx="114156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39320" y="2362320"/>
            <a:ext cx="90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zmacniacz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38240" y="2590920"/>
            <a:ext cx="81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ezdryftow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6059160" y="2270160"/>
            <a:ext cx="228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6059160" y="2879640"/>
            <a:ext cx="2286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686480" y="2270160"/>
            <a:ext cx="1373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686480" y="2879640"/>
            <a:ext cx="13730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62440" y="2193840"/>
            <a:ext cx="306360" cy="152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00080" y="2449440"/>
            <a:ext cx="1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21360" y="2232000"/>
            <a:ext cx="76320" cy="763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21360" y="2841480"/>
            <a:ext cx="76320" cy="763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31120" y="2879640"/>
            <a:ext cx="3808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431120" y="2270160"/>
            <a:ext cx="380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12000" y="2270160"/>
            <a:ext cx="18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736040" y="2422440"/>
            <a:ext cx="152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963560" y="251460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61360" y="198108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39840" y="2514600"/>
            <a:ext cx="18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73720" y="216072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59520" y="2270160"/>
            <a:ext cx="144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5945040" y="2470320"/>
            <a:ext cx="228600" cy="228600"/>
            <a:chOff x="5945040" y="2470320"/>
            <a:chExt cx="228600" cy="228600"/>
          </a:xfrm>
        </p:grpSpPr>
        <p:sp>
          <p:nvSpPr>
            <p:cNvPr id="184" name=""/>
            <p:cNvSpPr/>
            <p:nvPr/>
          </p:nvSpPr>
          <p:spPr>
            <a:xfrm>
              <a:off x="5945040" y="24703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968800" y="2499120"/>
              <a:ext cx="181080" cy="171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5373000" y="19051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50040" y="20257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754600" y="25588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678280" y="2438280"/>
            <a:ext cx="3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01600" y="4861080"/>
            <a:ext cx="18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87480" y="508968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01800" y="4632480"/>
            <a:ext cx="1141560" cy="99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53000" y="4952880"/>
            <a:ext cx="90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zmacniacz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51920" y="5181480"/>
            <a:ext cx="81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ezdryftow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472840" y="4861080"/>
            <a:ext cx="228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472840" y="5470560"/>
            <a:ext cx="228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01600" y="4861080"/>
            <a:ext cx="1371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101600" y="5470560"/>
            <a:ext cx="1371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177920" y="4784760"/>
            <a:ext cx="304920" cy="15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15560" y="5040360"/>
            <a:ext cx="1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44800" y="5470560"/>
            <a:ext cx="3812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44800" y="4861080"/>
            <a:ext cx="3812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226040" y="4861080"/>
            <a:ext cx="144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49720" y="5013360"/>
            <a:ext cx="152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377240" y="510552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176840" y="457200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53880" y="5105520"/>
            <a:ext cx="18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87400" y="475128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786680" y="44956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863720" y="46162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44600" y="475128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43880" y="4495680"/>
            <a:ext cx="35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   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320920" y="46162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35120" y="4327560"/>
            <a:ext cx="1066680" cy="228600"/>
          </a:xfrm>
          <a:custGeom>
            <a:avLst/>
            <a:gdLst/>
            <a:ahLst/>
            <a:rect l="l" t="t" r="r" b="b"/>
            <a:pathLst>
              <a:path w="672" h="144">
                <a:moveTo>
                  <a:pt x="0" y="144"/>
                </a:moveTo>
                <a:lnTo>
                  <a:pt x="0" y="96"/>
                </a:lnTo>
                <a:lnTo>
                  <a:pt x="48" y="48"/>
                </a:lnTo>
                <a:lnTo>
                  <a:pt x="288" y="48"/>
                </a:lnTo>
                <a:lnTo>
                  <a:pt x="336" y="0"/>
                </a:lnTo>
                <a:lnTo>
                  <a:pt x="384" y="48"/>
                </a:lnTo>
                <a:lnTo>
                  <a:pt x="624" y="48"/>
                </a:lnTo>
                <a:lnTo>
                  <a:pt x="672" y="96"/>
                </a:lnTo>
                <a:lnTo>
                  <a:pt x="672" y="14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897200" y="3851280"/>
            <a:ext cx="52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5410080" y="4495680"/>
                <a:ext cx="16653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= </m:t>
                    </m:r>
                    <m:f>
                      <m:num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3606840" y="1496880"/>
            <a:ext cx="129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505640" y="1636560"/>
            <a:ext cx="129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059360" y="4338720"/>
            <a:ext cx="129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792440" y="3448080"/>
            <a:ext cx="2708280" cy="368280"/>
          </a:xfrm>
          <a:prstGeom prst="borderCallout1">
            <a:avLst>
              <a:gd name="adj1" fmla="val 18750"/>
              <a:gd name="adj2" fmla="val -8333"/>
              <a:gd name="adj3" fmla="val -283592"/>
              <a:gd name="adj4" fmla="val 13339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pięciowe źródło dryf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422440" y="938160"/>
            <a:ext cx="2708280" cy="368280"/>
          </a:xfrm>
          <a:prstGeom prst="borderCallout1">
            <a:avLst>
              <a:gd name="adj1" fmla="val 18750"/>
              <a:gd name="adj2" fmla="val -8333"/>
              <a:gd name="adj3" fmla="val 412398"/>
              <a:gd name="adj4" fmla="val 12947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ądowe źródło dryf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owanie dryf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790560" y="1157040"/>
            <a:ext cx="7788240" cy="5037480"/>
            <a:chOff x="790560" y="1157040"/>
            <a:chExt cx="7788240" cy="5037480"/>
          </a:xfrm>
        </p:grpSpPr>
        <p:grpSp>
          <p:nvGrpSpPr>
            <p:cNvPr id="224" name=""/>
            <p:cNvGrpSpPr/>
            <p:nvPr/>
          </p:nvGrpSpPr>
          <p:grpSpPr>
            <a:xfrm>
              <a:off x="1668600" y="1911240"/>
              <a:ext cx="503280" cy="500040"/>
              <a:chOff x="1668600" y="1911240"/>
              <a:chExt cx="503280" cy="500040"/>
            </a:xfrm>
          </p:grpSpPr>
          <p:sp>
            <p:nvSpPr>
              <p:cNvPr id="225" name=""/>
              <p:cNvSpPr/>
              <p:nvPr/>
            </p:nvSpPr>
            <p:spPr>
              <a:xfrm>
                <a:off x="1670040" y="1911240"/>
                <a:ext cx="501840" cy="5000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V="1">
                <a:off x="1857240" y="2034720"/>
                <a:ext cx="1800" cy="250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V="1">
                <a:off x="1857240" y="1932120"/>
                <a:ext cx="16200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857240" y="2222640"/>
                <a:ext cx="168480" cy="168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668600" y="2160720"/>
                <a:ext cx="18864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V="1">
                <a:off x="1982880" y="2286000"/>
                <a:ext cx="144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1920960" y="2347920"/>
                <a:ext cx="619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 flipV="1">
              <a:off x="2046240" y="1742760"/>
              <a:ext cx="166680" cy="166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2212920" y="1157040"/>
              <a:ext cx="1800" cy="585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046240" y="2413080"/>
              <a:ext cx="166680" cy="166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212920" y="2579760"/>
              <a:ext cx="1800" cy="922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957240" y="2162160"/>
              <a:ext cx="7542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957240" y="2162160"/>
              <a:ext cx="1440" cy="585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0560" y="2747880"/>
              <a:ext cx="334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73000" y="2832120"/>
              <a:ext cx="1684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957240" y="2832120"/>
              <a:ext cx="1440" cy="669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957240" y="3502080"/>
              <a:ext cx="16747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25360" y="2077920"/>
              <a:ext cx="333720" cy="166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130480" y="2832120"/>
              <a:ext cx="166680" cy="333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2212920" y="1407960"/>
              <a:ext cx="84240" cy="84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 flipV="1">
              <a:off x="2130120" y="1407960"/>
              <a:ext cx="82440" cy="84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252080" y="176040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25320" y="284940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572920" y="29811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401120" y="18921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251360" y="2682720"/>
              <a:ext cx="110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401120" y="281304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437920" y="12384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588040" y="125892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657880" y="139068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688840" y="1824120"/>
              <a:ext cx="90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59040" y="19288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521800" y="182412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676240" y="209556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826360" y="2227320"/>
              <a:ext cx="15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521800" y="23274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672280" y="234792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742120" y="2478240"/>
              <a:ext cx="24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B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521800" y="207504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882880" y="1827360"/>
              <a:ext cx="252360" cy="834840"/>
            </a:xfrm>
            <a:custGeom>
              <a:avLst/>
              <a:gdLst/>
              <a:ahLst/>
              <a:rect l="l" t="t" r="r" b="b"/>
              <a:pathLst>
                <a:path w="159" h="526">
                  <a:moveTo>
                    <a:pt x="0" y="0"/>
                  </a:moveTo>
                  <a:lnTo>
                    <a:pt x="53" y="0"/>
                  </a:lnTo>
                  <a:lnTo>
                    <a:pt x="106" y="43"/>
                  </a:lnTo>
                  <a:lnTo>
                    <a:pt x="106" y="262"/>
                  </a:lnTo>
                  <a:lnTo>
                    <a:pt x="159" y="306"/>
                  </a:lnTo>
                  <a:lnTo>
                    <a:pt x="106" y="350"/>
                  </a:lnTo>
                  <a:lnTo>
                    <a:pt x="106" y="482"/>
                  </a:lnTo>
                  <a:lnTo>
                    <a:pt x="53" y="526"/>
                  </a:lnTo>
                  <a:lnTo>
                    <a:pt x="0" y="526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218040" y="2244600"/>
              <a:ext cx="16812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18040" y="2328840"/>
              <a:ext cx="1681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3218040" y="2161800"/>
              <a:ext cx="168120" cy="250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68600" y="2160720"/>
              <a:ext cx="168480" cy="25236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6610320" y="1911240"/>
              <a:ext cx="501840" cy="500040"/>
              <a:chOff x="6610320" y="1911240"/>
              <a:chExt cx="501840" cy="500040"/>
            </a:xfrm>
          </p:grpSpPr>
          <p:sp>
            <p:nvSpPr>
              <p:cNvPr id="270" name=""/>
              <p:cNvSpPr/>
              <p:nvPr/>
            </p:nvSpPr>
            <p:spPr>
              <a:xfrm>
                <a:off x="6610320" y="1911240"/>
                <a:ext cx="501840" cy="5000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V="1">
                <a:off x="6797520" y="2034720"/>
                <a:ext cx="1800" cy="250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6797520" y="1932120"/>
                <a:ext cx="16380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797520" y="2222640"/>
                <a:ext cx="168480" cy="168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610320" y="2160720"/>
                <a:ext cx="1872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6923160" y="2286000"/>
                <a:ext cx="144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>
                <a:off x="6861240" y="2347920"/>
                <a:ext cx="619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 flipV="1">
              <a:off x="6986520" y="1742760"/>
              <a:ext cx="166680" cy="166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7153200" y="1157040"/>
              <a:ext cx="1800" cy="585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86520" y="2413080"/>
              <a:ext cx="166680" cy="166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153200" y="2579760"/>
              <a:ext cx="1800" cy="922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557600" y="2162160"/>
              <a:ext cx="2178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57600" y="2162160"/>
              <a:ext cx="1800" cy="585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390920" y="2747880"/>
              <a:ext cx="33516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475160" y="2832120"/>
              <a:ext cx="166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557600" y="2832120"/>
              <a:ext cx="1800" cy="669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557600" y="3502080"/>
              <a:ext cx="25956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6080" y="2077920"/>
              <a:ext cx="334800" cy="166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70760" y="2832120"/>
              <a:ext cx="166680" cy="333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7153200" y="1407960"/>
              <a:ext cx="84240" cy="84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 flipV="1">
              <a:off x="7070400" y="1407960"/>
              <a:ext cx="82440" cy="84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854240" y="176040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365600" y="284940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513200" y="29811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001480" y="18921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853160" y="2682720"/>
              <a:ext cx="110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001480" y="281304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378200" y="12384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528320" y="125892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598160" y="139068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629120" y="1824120"/>
              <a:ext cx="90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699320" y="19288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462080" y="182412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616520" y="209556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766640" y="2227320"/>
              <a:ext cx="15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462080" y="23274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612560" y="234792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682760" y="2478240"/>
              <a:ext cx="24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B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462080" y="207504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823160" y="1827360"/>
              <a:ext cx="252360" cy="834840"/>
            </a:xfrm>
            <a:custGeom>
              <a:avLst/>
              <a:gdLst/>
              <a:ahLst/>
              <a:rect l="l" t="t" r="r" b="b"/>
              <a:pathLst>
                <a:path w="159" h="526">
                  <a:moveTo>
                    <a:pt x="0" y="0"/>
                  </a:moveTo>
                  <a:lnTo>
                    <a:pt x="53" y="0"/>
                  </a:lnTo>
                  <a:lnTo>
                    <a:pt x="106" y="43"/>
                  </a:lnTo>
                  <a:lnTo>
                    <a:pt x="106" y="262"/>
                  </a:lnTo>
                  <a:lnTo>
                    <a:pt x="159" y="306"/>
                  </a:lnTo>
                  <a:lnTo>
                    <a:pt x="106" y="350"/>
                  </a:lnTo>
                  <a:lnTo>
                    <a:pt x="106" y="482"/>
                  </a:lnTo>
                  <a:lnTo>
                    <a:pt x="53" y="526"/>
                  </a:lnTo>
                  <a:lnTo>
                    <a:pt x="0" y="526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158320" y="2244600"/>
              <a:ext cx="16812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8320" y="2328840"/>
              <a:ext cx="1681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08880" y="2160720"/>
              <a:ext cx="169920" cy="25236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11800" y="1994040"/>
              <a:ext cx="334800" cy="3348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5981760" y="2162160"/>
              <a:ext cx="1440" cy="1339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5815080" y="2664000"/>
              <a:ext cx="333360" cy="334800"/>
              <a:chOff x="5815080" y="2664000"/>
              <a:chExt cx="333360" cy="334800"/>
            </a:xfrm>
          </p:grpSpPr>
          <p:sp>
            <p:nvSpPr>
              <p:cNvPr id="316" name=""/>
              <p:cNvSpPr/>
              <p:nvPr/>
            </p:nvSpPr>
            <p:spPr>
              <a:xfrm>
                <a:off x="5815080" y="2664000"/>
                <a:ext cx="333360" cy="3348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856120" y="2706840"/>
                <a:ext cx="250920" cy="250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8" name=""/>
            <p:cNvSpPr/>
            <p:nvPr/>
          </p:nvSpPr>
          <p:spPr>
            <a:xfrm>
              <a:off x="5439960" y="167796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588280" y="1808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284080" y="165744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368320" y="26622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520240" y="268272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588280" y="28130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3176640" y="4589640"/>
              <a:ext cx="501480" cy="500040"/>
              <a:chOff x="3176640" y="4589640"/>
              <a:chExt cx="501480" cy="500040"/>
            </a:xfrm>
          </p:grpSpPr>
          <p:sp>
            <p:nvSpPr>
              <p:cNvPr id="325" name=""/>
              <p:cNvSpPr/>
              <p:nvPr/>
            </p:nvSpPr>
            <p:spPr>
              <a:xfrm>
                <a:off x="3176640" y="4589640"/>
                <a:ext cx="501480" cy="5000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V="1">
                <a:off x="3365640" y="4713120"/>
                <a:ext cx="1440" cy="252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3365640" y="4609800"/>
                <a:ext cx="161640" cy="166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365640" y="4902120"/>
                <a:ext cx="166680" cy="166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176640" y="4838760"/>
                <a:ext cx="1890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V="1">
                <a:off x="3490920" y="4965840"/>
                <a:ext cx="144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>
                <a:off x="3427560" y="5027760"/>
                <a:ext cx="6336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 flipV="1">
              <a:off x="3552840" y="4422600"/>
              <a:ext cx="168120" cy="1670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3720960" y="3836520"/>
              <a:ext cx="1800" cy="585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552840" y="5092560"/>
              <a:ext cx="168120" cy="166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5259240"/>
              <a:ext cx="1800" cy="920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125360" y="4842000"/>
              <a:ext cx="21765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1125360" y="4841640"/>
              <a:ext cx="1800" cy="1338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90560" y="6180120"/>
              <a:ext cx="39355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711440" y="4757760"/>
              <a:ext cx="334800" cy="166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637080" y="5511960"/>
              <a:ext cx="166680" cy="333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3720960" y="4087800"/>
              <a:ext cx="84240" cy="84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 flipV="1">
              <a:off x="3636720" y="4087800"/>
              <a:ext cx="83880" cy="84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839600" y="444024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931920" y="552924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080960" y="566100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986840" y="457200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944160" y="391788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096440" y="393876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165920" y="407052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197240" y="4503600"/>
              <a:ext cx="90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265640" y="46083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028400" y="45036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184280" y="477504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332600" y="4906800"/>
              <a:ext cx="15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028400" y="500544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180320" y="502596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248720" y="5157720"/>
              <a:ext cx="24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B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028400" y="475452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390920" y="4506840"/>
              <a:ext cx="250920" cy="835200"/>
            </a:xfrm>
            <a:custGeom>
              <a:avLst/>
              <a:gdLst/>
              <a:ahLst/>
              <a:rect l="l" t="t" r="r" b="b"/>
              <a:pathLst>
                <a:path w="158" h="526">
                  <a:moveTo>
                    <a:pt x="0" y="0"/>
                  </a:moveTo>
                  <a:lnTo>
                    <a:pt x="53" y="0"/>
                  </a:lnTo>
                  <a:lnTo>
                    <a:pt x="105" y="42"/>
                  </a:lnTo>
                  <a:lnTo>
                    <a:pt x="105" y="262"/>
                  </a:lnTo>
                  <a:lnTo>
                    <a:pt x="158" y="306"/>
                  </a:lnTo>
                  <a:lnTo>
                    <a:pt x="105" y="350"/>
                  </a:lnTo>
                  <a:lnTo>
                    <a:pt x="105" y="482"/>
                  </a:lnTo>
                  <a:lnTo>
                    <a:pt x="53" y="526"/>
                  </a:lnTo>
                  <a:lnTo>
                    <a:pt x="0" y="526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726080" y="4924440"/>
              <a:ext cx="166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726080" y="5008680"/>
              <a:ext cx="166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976640" y="4840200"/>
              <a:ext cx="168480" cy="25236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209600" y="4673520"/>
              <a:ext cx="333360" cy="335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2800440" y="4841640"/>
              <a:ext cx="1440" cy="1338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2631960" y="5343480"/>
              <a:ext cx="335160" cy="335160"/>
              <a:chOff x="2631960" y="5343480"/>
              <a:chExt cx="335160" cy="335160"/>
            </a:xfrm>
          </p:grpSpPr>
          <p:sp>
            <p:nvSpPr>
              <p:cNvPr id="366" name=""/>
              <p:cNvSpPr/>
              <p:nvPr/>
            </p:nvSpPr>
            <p:spPr>
              <a:xfrm>
                <a:off x="2631960" y="5343480"/>
                <a:ext cx="335160" cy="3351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674800" y="5386320"/>
                <a:ext cx="249480" cy="2494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" name=""/>
            <p:cNvSpPr/>
            <p:nvPr/>
          </p:nvSpPr>
          <p:spPr>
            <a:xfrm>
              <a:off x="1335240" y="4357800"/>
              <a:ext cx="110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486080" y="44877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181880" y="433692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107520" y="534024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258000" y="536112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327480" y="5492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872640" y="3836880"/>
              <a:ext cx="38530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381400" y="3836880"/>
              <a:ext cx="1440" cy="234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297160" y="4087800"/>
              <a:ext cx="166680" cy="334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297160" y="5343480"/>
              <a:ext cx="166680" cy="335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592000" y="410544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741760" y="4237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006280" y="536112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56040" y="5492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328840" y="47973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770200" y="481500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346480" y="611964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770200" y="61023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687840" y="379260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170080" y="345744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945040" y="3457440"/>
              <a:ext cx="7488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5040" y="2119320"/>
              <a:ext cx="7488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705120" y="6119640"/>
              <a:ext cx="7488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076400" y="611964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346480" y="379260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czyny powstawania dryf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751760" y="2384280"/>
            <a:ext cx="5886720" cy="28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Zmiany temperatu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Zmiany napięć zasilając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Starzenie się element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Wpływ promieniowania jonizując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30T13:48:31Z</dcterms:created>
  <dc:creator>Agnieszka Kukawczynska</dc:creator>
  <dc:description/>
  <dc:language>en-US</dc:language>
  <cp:lastModifiedBy>MK</cp:lastModifiedBy>
  <dcterms:modified xsi:type="dcterms:W3CDTF">2003-12-01T06:29:52Z</dcterms:modified>
  <cp:revision>69</cp:revision>
  <dc:subject/>
  <dc:title>Wzmacniacze prądu stałego</dc:title>
</cp:coreProperties>
</file>